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wmf" ContentType="image/x-wmf"/>
  <Override PartName="/ppt/media/image30.png" ContentType="image/png"/>
  <Override PartName="/ppt/media/image31.png" ContentType="image/png"/>
  <Override PartName="/ppt/media/image6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5.wmf" ContentType="image/x-wmf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66.wmf" ContentType="image/x-wmf"/>
  <Override PartName="/ppt/media/image26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E3C-4AD5-4957-BC9F-758C2A4B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8A1-A97C-4B94-87C5-EDDEEB8E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63A-086A-4D4F-827F-3965F8B3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83B-EBA9-4B96-9481-3185C380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906-266B-41E6-BC89-EECB37E8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35A-09D0-4236-AF74-E03C9C9F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040-7B6C-4F77-997D-5F5EFB3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BBB-084F-4A1B-B44A-E85D63F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977-C515-4372-B997-041374E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B1A-1BF4-4B7E-84D2-7297E4DC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366-5FED-4BCE-99E6-6F7E08ED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A08-D50F-4CAE-87BB-5384F947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449280"/>
            <a:ext cx="199080" cy="6408000"/>
            <a:chOff x="8792640" y="4492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4492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6084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371520"/>
            <a:ext cx="8745480" cy="161280"/>
            <a:chOff x="76320" y="37152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76020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397080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371520"/>
            <a:ext cx="8745840" cy="161280"/>
            <a:chOff x="71280" y="37152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76020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397116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80808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80808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80808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80808"/>
                </a:solidFill>
                <a:latin typeface="隶书"/>
                <a:ea typeface="隶书"/>
              </a:rPr>
              <a:t>章  数据库编程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990720" y="228600"/>
            <a:ext cx="16761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flipH="1">
            <a:off x="6095880" y="228600"/>
            <a:ext cx="18288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DE80-80E9-4298-A679-AD779E97AAFA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51.xml"/><Relationship Id="rId13" Type="http://schemas.openxmlformats.org/officeDocument/2006/relationships/slide" Target="slide51.xml"/><Relationship Id="rId14" Type="http://schemas.openxmlformats.org/officeDocument/2006/relationships/slide" Target="slide72.xml"/><Relationship Id="rId15" Type="http://schemas.openxmlformats.org/officeDocument/2006/relationships/slide" Target="slide72.xml"/><Relationship Id="rId16" Type="http://schemas.openxmlformats.org/officeDocument/2006/relationships/slide" Target="slide124.xml"/><Relationship Id="rId17" Type="http://schemas.openxmlformats.org/officeDocument/2006/relationships/slide" Target="slide124.xml"/><Relationship Id="rId18" Type="http://schemas.openxmlformats.org/officeDocument/2006/relationships/slide" Target="slide124.xml"/><Relationship Id="rId19" Type="http://schemas.openxmlformats.org/officeDocument/2006/relationships/slide" Target="slide140.xml"/><Relationship Id="rId20" Type="http://schemas.openxmlformats.org/officeDocument/2006/relationships/slide" Target="slide140.xml"/><Relationship Id="rId2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125.xml"/><Relationship Id="rId3" Type="http://schemas.openxmlformats.org/officeDocument/2006/relationships/slide" Target="slide125.xml"/><Relationship Id="rId4" Type="http://schemas.openxmlformats.org/officeDocument/2006/relationships/slide" Target="slide125.xml"/><Relationship Id="rId5" Type="http://schemas.openxmlformats.org/officeDocument/2006/relationships/slide" Target="slide126.xml"/><Relationship Id="rId6" Type="http://schemas.openxmlformats.org/officeDocument/2006/relationships/slide" Target="slide126.xml"/><Relationship Id="rId7" Type="http://schemas.openxmlformats.org/officeDocument/2006/relationships/slide" Target="slide126.xml"/><Relationship Id="rId8" Type="http://schemas.openxmlformats.org/officeDocument/2006/relationships/slide" Target="slide126.xml"/><Relationship Id="rId9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31.xml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slide38.xml"/><Relationship Id="rId13" Type="http://schemas.openxmlformats.org/officeDocument/2006/relationships/slide" Target="slide38.xml"/><Relationship Id="rId14" Type="http://schemas.openxmlformats.org/officeDocument/2006/relationships/slide" Target="slide38.xml"/><Relationship Id="rId15" Type="http://schemas.openxmlformats.org/officeDocument/2006/relationships/slide" Target="slide38.xml"/><Relationship Id="rId16" Type="http://schemas.openxmlformats.org/officeDocument/2006/relationships/slide" Target="slide38.xml"/><Relationship Id="rId17" Type="http://schemas.openxmlformats.org/officeDocument/2006/relationships/slide" Target="slide42.xml"/><Relationship Id="rId18" Type="http://schemas.openxmlformats.org/officeDocument/2006/relationships/slide" Target="slide42.xml"/><Relationship Id="rId19" Type="http://schemas.openxmlformats.org/officeDocument/2006/relationships/slide" Target="slide42.xml"/><Relationship Id="rId20" Type="http://schemas.openxmlformats.org/officeDocument/2006/relationships/slide" Target="slide42.xml"/><Relationship Id="rId2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3.xml"/><Relationship Id="rId5" Type="http://schemas.openxmlformats.org/officeDocument/2006/relationships/slide" Target="slide64.xml"/><Relationship Id="rId6" Type="http://schemas.openxmlformats.org/officeDocument/2006/relationships/slide" Target="slide64.xml"/><Relationship Id="rId7" Type="http://schemas.openxmlformats.org/officeDocument/2006/relationships/slide" Target="slide64.xml"/><Relationship Id="rId8" Type="http://schemas.openxmlformats.org/officeDocument/2006/relationships/slide" Target="slide67.xml"/><Relationship Id="rId9" Type="http://schemas.openxmlformats.org/officeDocument/2006/relationships/slide" Target="slide67.xml"/><Relationship Id="rId10" Type="http://schemas.openxmlformats.org/officeDocument/2006/relationships/slide" Target="slide67.xml"/><Relationship Id="rId11" Type="http://schemas.openxmlformats.org/officeDocument/2006/relationships/slide" Target="slide71.xml"/><Relationship Id="rId12" Type="http://schemas.openxmlformats.org/officeDocument/2006/relationships/slide" Target="slide71.xml"/><Relationship Id="rId13" Type="http://schemas.openxmlformats.org/officeDocument/2006/relationships/slide" Target="slide71.xml"/><Relationship Id="rId1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75.xml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slide" Target="slide79.xml"/><Relationship Id="rId6" Type="http://schemas.openxmlformats.org/officeDocument/2006/relationships/slide" Target="slide85.xml"/><Relationship Id="rId7" Type="http://schemas.openxmlformats.org/officeDocument/2006/relationships/slide" Target="slide85.xml"/><Relationship Id="rId8" Type="http://schemas.openxmlformats.org/officeDocument/2006/relationships/slide" Target="slide85.xml"/><Relationship Id="rId9" Type="http://schemas.openxmlformats.org/officeDocument/2006/relationships/slide" Target="slide90.xml"/><Relationship Id="rId10" Type="http://schemas.openxmlformats.org/officeDocument/2006/relationships/slide" Target="slide90.xml"/><Relationship Id="rId11" Type="http://schemas.openxmlformats.org/officeDocument/2006/relationships/slide" Target="slide90.xml"/><Relationship Id="rId12" Type="http://schemas.openxmlformats.org/officeDocument/2006/relationships/slide" Target="slide93.xml"/><Relationship Id="rId13" Type="http://schemas.openxmlformats.org/officeDocument/2006/relationships/slide" Target="slide93.xml"/><Relationship Id="rId14" Type="http://schemas.openxmlformats.org/officeDocument/2006/relationships/slide" Target="slide93.xml"/><Relationship Id="rId15" Type="http://schemas.openxmlformats.org/officeDocument/2006/relationships/slide" Target="slide98.xml"/><Relationship Id="rId16" Type="http://schemas.openxmlformats.org/officeDocument/2006/relationships/slide" Target="slide98.xml"/><Relationship Id="rId17" Type="http://schemas.openxmlformats.org/officeDocument/2006/relationships/slide" Target="slide98.xml"/><Relationship Id="rId18" Type="http://schemas.openxmlformats.org/officeDocument/2006/relationships/slide" Target="slide98.xml"/><Relationship Id="rId19" Type="http://schemas.openxmlformats.org/officeDocument/2006/relationships/slide" Target="slide99.xml"/><Relationship Id="rId20" Type="http://schemas.openxmlformats.org/officeDocument/2006/relationships/slide" Target="slide99.xml"/><Relationship Id="rId21" Type="http://schemas.openxmlformats.org/officeDocument/2006/relationships/slide" Target="slide99.xml"/><Relationship Id="rId2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103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9.xml"/><Relationship Id="rId5" Type="http://schemas.openxmlformats.org/officeDocument/2006/relationships/slide" Target="slide109.xml"/><Relationship Id="rId6" Type="http://schemas.openxmlformats.org/officeDocument/2006/relationships/slide" Target="slide109.xml"/><Relationship Id="rId7" Type="http://schemas.openxmlformats.org/officeDocument/2006/relationships/slide" Target="slide112.xml"/><Relationship Id="rId8" Type="http://schemas.openxmlformats.org/officeDocument/2006/relationships/slide" Target="slide112.xml"/><Relationship Id="rId9" Type="http://schemas.openxmlformats.org/officeDocument/2006/relationships/slide" Target="slide112.xml"/><Relationship Id="rId10" Type="http://schemas.openxmlformats.org/officeDocument/2006/relationships/slide" Target="slide115.xml"/><Relationship Id="rId11" Type="http://schemas.openxmlformats.org/officeDocument/2006/relationships/slide" Target="slide115.xml"/><Relationship Id="rId12" Type="http://schemas.openxmlformats.org/officeDocument/2006/relationships/slide" Target="slide115.xml"/><Relationship Id="rId13" Type="http://schemas.openxmlformats.org/officeDocument/2006/relationships/slide" Target="slide116.xml"/><Relationship Id="rId14" Type="http://schemas.openxmlformats.org/officeDocument/2006/relationships/slide" Target="slide116.xml"/><Relationship Id="rId15" Type="http://schemas.openxmlformats.org/officeDocument/2006/relationships/slide" Target="slide116.xml"/><Relationship Id="rId16" Type="http://schemas.openxmlformats.org/officeDocument/2006/relationships/slide" Target="slide117.xml"/><Relationship Id="rId17" Type="http://schemas.openxmlformats.org/officeDocument/2006/relationships/slide" Target="slide117.xml"/><Relationship Id="rId18" Type="http://schemas.openxmlformats.org/officeDocument/2006/relationships/slide" Target="slide117.xml"/><Relationship Id="rId19" Type="http://schemas.openxmlformats.org/officeDocument/2006/relationships/slide" Target="slide120.xml"/><Relationship Id="rId20" Type="http://schemas.openxmlformats.org/officeDocument/2006/relationships/slide" Target="slide120.xml"/><Relationship Id="rId2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章  数据库编程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4038840" cy="33530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Delphi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数据库系统概述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6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5" action="ppaction://hlinksldjump"/>
              </a:rPr>
              <a:t>数据库引擎管理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6.3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连接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ODBC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9" action="ppaction://hlinksldjump"/>
              </a:rPr>
              <a:t>数据库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0" action="ppaction://hlinksldjump"/>
              </a:rPr>
              <a:t>6.4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1" action="ppaction://hlinksldjump"/>
              </a:rPr>
              <a:t>数据库桌面系统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600" y="2209680"/>
            <a:ext cx="3733920" cy="33530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6.5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3" action="ppaction://hlinksldjump"/>
              </a:rPr>
              <a:t>数据集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4" action="ppaction://hlinksldjump"/>
              </a:rPr>
              <a:t>6.6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5" action="ppaction://hlinksldjump"/>
              </a:rPr>
              <a:t>数据控制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6" action="ppaction://hlinksldjump"/>
              </a:rPr>
              <a:t>6.7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7" action="ppaction://hlinksldjump"/>
              </a:rPr>
              <a:t>Decision Cub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9" action="ppaction://hlinksldjump"/>
              </a:rPr>
              <a:t>6.8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0" action="ppaction://hlinksldjump"/>
              </a:rPr>
              <a:t>报表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676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本章要点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6720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322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388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arad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库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别名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下面举一个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Memo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例子。程序的主窗体界面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其中主要控件的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3257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952880" cy="382284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198108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"/>
          <p:cNvGrpSpPr/>
          <p:nvPr/>
        </p:nvGrpSpPr>
        <p:grpSpPr>
          <a:xfrm>
            <a:off x="457200" y="609480"/>
            <a:ext cx="7695720" cy="5486400"/>
            <a:chOff x="457200" y="609480"/>
            <a:chExt cx="7695720" cy="5486400"/>
          </a:xfrm>
        </p:grpSpPr>
        <p:grpSp>
          <p:nvGrpSpPr>
            <p:cNvPr id="1215" name=""/>
            <p:cNvGrpSpPr/>
            <p:nvPr/>
          </p:nvGrpSpPr>
          <p:grpSpPr>
            <a:xfrm>
              <a:off x="463320" y="612360"/>
              <a:ext cx="7682040" cy="5480280"/>
              <a:chOff x="463320" y="612360"/>
              <a:chExt cx="7682040" cy="548028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463320" y="612360"/>
                <a:ext cx="2433600" cy="365040"/>
                <a:chOff x="463320" y="612360"/>
                <a:chExt cx="2433600" cy="3650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556200" y="612360"/>
                  <a:ext cx="22482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320" y="612360"/>
                  <a:ext cx="2433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2897280" y="612360"/>
                <a:ext cx="2615400" cy="365040"/>
                <a:chOff x="2897280" y="612360"/>
                <a:chExt cx="2615400" cy="36504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2990160" y="61236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897280" y="61236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513040" y="612360"/>
                <a:ext cx="2632320" cy="365040"/>
                <a:chOff x="5513040" y="612360"/>
                <a:chExt cx="2632320" cy="36504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05200" y="61236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513040" y="61236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63320" y="977400"/>
                <a:ext cx="2433600" cy="1096200"/>
                <a:chOff x="463320" y="977400"/>
                <a:chExt cx="2433600" cy="109620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556200" y="977400"/>
                  <a:ext cx="2248200" cy="109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63320" y="977400"/>
                  <a:ext cx="2433600" cy="109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2897280" y="977400"/>
                <a:ext cx="2615400" cy="365040"/>
                <a:chOff x="2897280" y="977400"/>
                <a:chExt cx="2615400" cy="3650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990160" y="9774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897280" y="9774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5513040" y="977400"/>
                <a:ext cx="2632320" cy="365040"/>
                <a:chOff x="5513040" y="977400"/>
                <a:chExt cx="2632320" cy="36504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5605200" y="9774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513040" y="9774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2897280" y="1342800"/>
                <a:ext cx="2615400" cy="365400"/>
                <a:chOff x="2897280" y="1342800"/>
                <a:chExt cx="2615400" cy="3654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2990160" y="134280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897280" y="134280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5513040" y="1342800"/>
                <a:ext cx="2632320" cy="365400"/>
                <a:chOff x="5513040" y="1342800"/>
                <a:chExt cx="2632320" cy="36540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5605200" y="134280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olife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513040" y="134280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2897280" y="1708560"/>
                <a:ext cx="2615400" cy="365040"/>
                <a:chOff x="2897280" y="1708560"/>
                <a:chExt cx="2615400" cy="3650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2990160" y="170856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897280" y="170856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5513040" y="1708560"/>
                <a:ext cx="2632320" cy="365040"/>
                <a:chOff x="5513040" y="1708560"/>
                <a:chExt cx="2632320" cy="36504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5605200" y="170856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513040" y="170856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463320" y="2073600"/>
                <a:ext cx="2433600" cy="365040"/>
                <a:chOff x="463320" y="2073600"/>
                <a:chExt cx="2433600" cy="36504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556200" y="2073600"/>
                  <a:ext cx="22482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63320" y="2073600"/>
                  <a:ext cx="2433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2897280" y="2073600"/>
                <a:ext cx="2615400" cy="365040"/>
                <a:chOff x="2897280" y="2073600"/>
                <a:chExt cx="2615400" cy="36504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2990160" y="20736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897280" y="20736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5513040" y="2073600"/>
                <a:ext cx="2632320" cy="365040"/>
                <a:chOff x="5513040" y="2073600"/>
                <a:chExt cx="2632320" cy="36504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5605200" y="20736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13040" y="20736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463320" y="2439000"/>
                <a:ext cx="2433600" cy="365040"/>
                <a:chOff x="463320" y="2439000"/>
                <a:chExt cx="2433600" cy="36504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556200" y="2439000"/>
                  <a:ext cx="22482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3320" y="2439000"/>
                  <a:ext cx="2433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2897280" y="2439000"/>
                <a:ext cx="2615400" cy="365040"/>
                <a:chOff x="2897280" y="2439000"/>
                <a:chExt cx="2615400" cy="36504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2990160" y="24390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897280" y="24390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5513040" y="2439000"/>
                <a:ext cx="2632320" cy="365040"/>
                <a:chOff x="5513040" y="2439000"/>
                <a:chExt cx="2632320" cy="36504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5605200" y="24390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513040" y="24390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4" name=""/>
              <p:cNvGrpSpPr/>
              <p:nvPr/>
            </p:nvGrpSpPr>
            <p:grpSpPr>
              <a:xfrm>
                <a:off x="463320" y="2804400"/>
                <a:ext cx="2433600" cy="1827000"/>
                <a:chOff x="463320" y="2804400"/>
                <a:chExt cx="2433600" cy="1827000"/>
              </a:xfrm>
            </p:grpSpPr>
            <p:sp>
              <p:nvSpPr>
                <p:cNvPr id="1265" name=""/>
                <p:cNvSpPr/>
                <p:nvPr/>
              </p:nvSpPr>
              <p:spPr>
                <a:xfrm>
                  <a:off x="556200" y="2804400"/>
                  <a:ext cx="2248200" cy="182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Memo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3320" y="2804400"/>
                  <a:ext cx="2433600" cy="182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"/>
              <p:cNvGrpSpPr/>
              <p:nvPr/>
            </p:nvGrpSpPr>
            <p:grpSpPr>
              <a:xfrm>
                <a:off x="2897280" y="2804400"/>
                <a:ext cx="2615400" cy="365400"/>
                <a:chOff x="2897280" y="2804400"/>
                <a:chExt cx="2615400" cy="36540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990160" y="280440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897280" y="280440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"/>
              <p:cNvGrpSpPr/>
              <p:nvPr/>
            </p:nvGrpSpPr>
            <p:grpSpPr>
              <a:xfrm>
                <a:off x="5513040" y="2804400"/>
                <a:ext cx="2632320" cy="365400"/>
                <a:chOff x="5513040" y="2804400"/>
                <a:chExt cx="2632320" cy="36540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5605200" y="280440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513040" y="280440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2897280" y="3169800"/>
                <a:ext cx="2615400" cy="365040"/>
                <a:chOff x="2897280" y="3169800"/>
                <a:chExt cx="2615400" cy="3650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2990160" y="31698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897280" y="31698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5513040" y="3169800"/>
                <a:ext cx="2632320" cy="365040"/>
                <a:chOff x="5513040" y="3169800"/>
                <a:chExt cx="2632320" cy="36504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5605200" y="31698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ote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513040" y="31698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2897280" y="3535200"/>
                <a:ext cx="2615400" cy="365040"/>
                <a:chOff x="2897280" y="3535200"/>
                <a:chExt cx="2615400" cy="36504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2990160" y="35352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utodispla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897280" y="35352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5513040" y="3535200"/>
                <a:ext cx="2632320" cy="365040"/>
                <a:chOff x="5513040" y="3535200"/>
                <a:chExt cx="2632320" cy="3650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5605200" y="35352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513040" y="35352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2897280" y="3900600"/>
                <a:ext cx="2615400" cy="365040"/>
                <a:chOff x="2897280" y="3900600"/>
                <a:chExt cx="2615400" cy="36504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2990160" y="39006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crollBar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897280" y="39006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5513040" y="3900600"/>
                <a:ext cx="2632320" cy="365040"/>
                <a:chOff x="5513040" y="3900600"/>
                <a:chExt cx="2632320" cy="36504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5605200" y="39006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sVertica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13040" y="39006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2897280" y="4266000"/>
                <a:ext cx="2615400" cy="365400"/>
                <a:chOff x="2897280" y="4266000"/>
                <a:chExt cx="2615400" cy="3654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2990160" y="426600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WordWra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897280" y="426600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5513040" y="4266000"/>
                <a:ext cx="2632320" cy="365400"/>
                <a:chOff x="5513040" y="4266000"/>
                <a:chExt cx="2632320" cy="36540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5605200" y="426600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513040" y="426600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463320" y="4631400"/>
                <a:ext cx="2433600" cy="1461240"/>
                <a:chOff x="463320" y="4631400"/>
                <a:chExt cx="2433600" cy="14612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56200" y="4631400"/>
                  <a:ext cx="2248200" cy="14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Imag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63320" y="4631400"/>
                  <a:ext cx="2433600" cy="14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2897280" y="4631400"/>
                <a:ext cx="2615400" cy="365040"/>
                <a:chOff x="2897280" y="4631400"/>
                <a:chExt cx="2615400" cy="36504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2990160" y="46314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897280" y="46314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5513040" y="4631400"/>
                <a:ext cx="2632320" cy="365040"/>
                <a:chOff x="5513040" y="4631400"/>
                <a:chExt cx="2632320" cy="36504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5605200" y="46314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513040" y="46314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2897280" y="4996800"/>
                <a:ext cx="2615400" cy="365040"/>
                <a:chOff x="2897280" y="4996800"/>
                <a:chExt cx="2615400" cy="36504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2990160" y="49968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897280" y="49968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5513040" y="4996800"/>
                <a:ext cx="2632320" cy="365040"/>
                <a:chOff x="5513040" y="4996800"/>
                <a:chExt cx="2632320" cy="36504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5605200" y="49968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Graphic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513040" y="49968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2897280" y="5362200"/>
                <a:ext cx="2615400" cy="365040"/>
                <a:chOff x="2897280" y="5362200"/>
                <a:chExt cx="2615400" cy="36504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2990160" y="53622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utoDispla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897280" y="53622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5513040" y="5362200"/>
                <a:ext cx="2632320" cy="365040"/>
                <a:chOff x="5513040" y="5362200"/>
                <a:chExt cx="2632320" cy="36504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5605200" y="53622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5513040" y="53622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2897280" y="5727240"/>
                <a:ext cx="2615400" cy="365400"/>
                <a:chOff x="2897280" y="5727240"/>
                <a:chExt cx="2615400" cy="36540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2990160" y="572724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tretch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897280" y="572724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5513040" y="5727240"/>
                <a:ext cx="2632320" cy="365400"/>
                <a:chOff x="5513040" y="5727240"/>
                <a:chExt cx="2632320" cy="36540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5605200" y="572724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513040" y="572724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4" name=""/>
            <p:cNvSpPr/>
            <p:nvPr/>
          </p:nvSpPr>
          <p:spPr>
            <a:xfrm>
              <a:off x="457200" y="609480"/>
              <a:ext cx="7695720" cy="5486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7790760" y="83808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2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窗体中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8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List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172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tegralHeigh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y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Heigh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举一个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例子。列表框的选项在设计时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ring List Edi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来进行编辑。程序的主窗体的设计界面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其中主要控件的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程序的运行界面如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5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30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848480" cy="324648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1752480" y="5181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List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窗体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3276720" y="990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3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276200" y="1981080"/>
            <a:ext cx="6267240" cy="3505320"/>
            <a:chOff x="1276200" y="1981080"/>
            <a:chExt cx="6267240" cy="3505320"/>
          </a:xfrm>
        </p:grpSpPr>
        <p:grpSp>
          <p:nvGrpSpPr>
            <p:cNvPr id="1336" name=""/>
            <p:cNvGrpSpPr/>
            <p:nvPr/>
          </p:nvGrpSpPr>
          <p:grpSpPr>
            <a:xfrm>
              <a:off x="1281240" y="1985400"/>
              <a:ext cx="6256440" cy="3495240"/>
              <a:chOff x="1281240" y="1985400"/>
              <a:chExt cx="6256440" cy="3495240"/>
            </a:xfrm>
          </p:grpSpPr>
          <p:grpSp>
            <p:nvGrpSpPr>
              <p:cNvPr id="1337" name=""/>
              <p:cNvGrpSpPr/>
              <p:nvPr/>
            </p:nvGrpSpPr>
            <p:grpSpPr>
              <a:xfrm>
                <a:off x="1281240" y="1985400"/>
                <a:ext cx="1849320" cy="582480"/>
                <a:chOff x="1281240" y="1985400"/>
                <a:chExt cx="1849320" cy="582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1356840" y="1985400"/>
                  <a:ext cx="16981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281240" y="1985400"/>
                  <a:ext cx="184932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3130920" y="1985400"/>
                <a:ext cx="2331360" cy="582480"/>
                <a:chOff x="3130920" y="1985400"/>
                <a:chExt cx="2331360" cy="582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3206520" y="198540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130920" y="198540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5463000" y="1985400"/>
                <a:ext cx="2074680" cy="582480"/>
                <a:chOff x="5463000" y="1985400"/>
                <a:chExt cx="2074680" cy="582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5538600" y="198540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463000" y="198540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1281240" y="2567880"/>
                <a:ext cx="1849320" cy="1747800"/>
                <a:chOff x="1281240" y="2567880"/>
                <a:chExt cx="1849320" cy="174780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1356840" y="2567880"/>
                  <a:ext cx="1698120" cy="174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1281240" y="2567880"/>
                  <a:ext cx="1849320" cy="174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3130920" y="2567880"/>
                <a:ext cx="2331360" cy="582480"/>
                <a:chOff x="3130920" y="2567880"/>
                <a:chExt cx="2331360" cy="5824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206520" y="256788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3130920" y="256788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5463000" y="2567880"/>
                <a:ext cx="2074680" cy="582480"/>
                <a:chOff x="5463000" y="2567880"/>
                <a:chExt cx="2074680" cy="58248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5538600" y="256788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463000" y="256788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3130920" y="3150360"/>
                <a:ext cx="2331360" cy="582840"/>
                <a:chOff x="3130920" y="3150360"/>
                <a:chExt cx="2331360" cy="58284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3206520" y="3150360"/>
                  <a:ext cx="2180520" cy="5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130920" y="3150360"/>
                  <a:ext cx="2331360" cy="58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5463000" y="3150360"/>
                <a:ext cx="2074680" cy="582840"/>
                <a:chOff x="5463000" y="3150360"/>
                <a:chExt cx="2074680" cy="5828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5538600" y="3150360"/>
                  <a:ext cx="1923480" cy="5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untry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463000" y="3150360"/>
                  <a:ext cx="2074680" cy="58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3130920" y="3733200"/>
                <a:ext cx="2331360" cy="582480"/>
                <a:chOff x="3130920" y="3733200"/>
                <a:chExt cx="2331360" cy="5824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3206520" y="373320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130920" y="373320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5463000" y="3733200"/>
                <a:ext cx="2074680" cy="582480"/>
                <a:chOff x="5463000" y="3733200"/>
                <a:chExt cx="2074680" cy="58248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5538600" y="373320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463000" y="373320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1281240" y="4315680"/>
                <a:ext cx="1849320" cy="582480"/>
                <a:chOff x="1281240" y="4315680"/>
                <a:chExt cx="1849320" cy="5824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1356840" y="4315680"/>
                  <a:ext cx="16981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281240" y="4315680"/>
                  <a:ext cx="184932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3130920" y="4315680"/>
                <a:ext cx="2331360" cy="582480"/>
                <a:chOff x="3130920" y="4315680"/>
                <a:chExt cx="2331360" cy="58248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3206520" y="431568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130920" y="431568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5463000" y="4315680"/>
                <a:ext cx="2074680" cy="582480"/>
                <a:chOff x="5463000" y="4315680"/>
                <a:chExt cx="2074680" cy="58248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5538600" y="431568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463000" y="431568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1281240" y="4898160"/>
                <a:ext cx="1849320" cy="582480"/>
                <a:chOff x="1281240" y="4898160"/>
                <a:chExt cx="1849320" cy="5824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1356840" y="4898160"/>
                  <a:ext cx="16981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281240" y="4898160"/>
                  <a:ext cx="184932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130920" y="4898160"/>
                <a:ext cx="2331360" cy="582480"/>
                <a:chOff x="3130920" y="4898160"/>
                <a:chExt cx="2331360" cy="58248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206520" y="489816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130920" y="489816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5463000" y="4898160"/>
                <a:ext cx="2074680" cy="582480"/>
                <a:chOff x="5463000" y="4898160"/>
                <a:chExt cx="2074680" cy="5824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5538600" y="489816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463000" y="489816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5" name=""/>
            <p:cNvSpPr/>
            <p:nvPr/>
          </p:nvSpPr>
          <p:spPr>
            <a:xfrm>
              <a:off x="1276200" y="1981080"/>
              <a:ext cx="6267240" cy="3505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"/>
          <p:cNvGrpSpPr/>
          <p:nvPr/>
        </p:nvGrpSpPr>
        <p:grpSpPr>
          <a:xfrm>
            <a:off x="533520" y="533520"/>
            <a:ext cx="7848000" cy="5562000"/>
            <a:chOff x="533520" y="533520"/>
            <a:chExt cx="7848000" cy="5562000"/>
          </a:xfrm>
        </p:grpSpPr>
        <p:grpSp>
          <p:nvGrpSpPr>
            <p:cNvPr id="1387" name=""/>
            <p:cNvGrpSpPr/>
            <p:nvPr/>
          </p:nvGrpSpPr>
          <p:grpSpPr>
            <a:xfrm>
              <a:off x="540000" y="538920"/>
              <a:ext cx="7834320" cy="5549400"/>
              <a:chOff x="540000" y="538920"/>
              <a:chExt cx="7834320" cy="554940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540000" y="538920"/>
                <a:ext cx="2315880" cy="721080"/>
                <a:chOff x="540000" y="538920"/>
                <a:chExt cx="2315880" cy="72108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634680" y="538920"/>
                  <a:ext cx="2126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40000" y="538920"/>
                  <a:ext cx="23158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2856240" y="538920"/>
                <a:ext cx="2919240" cy="721080"/>
                <a:chOff x="2856240" y="538920"/>
                <a:chExt cx="2919240" cy="72108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2950920" y="53892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856240" y="53892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776200" y="538920"/>
                <a:ext cx="2598120" cy="721080"/>
                <a:chOff x="5776200" y="538920"/>
                <a:chExt cx="2598120" cy="7210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5870880" y="53892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5776200" y="53892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40000" y="1260360"/>
                <a:ext cx="2315880" cy="3384360"/>
                <a:chOff x="540000" y="1260360"/>
                <a:chExt cx="2315880" cy="338436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634680" y="1260360"/>
                  <a:ext cx="2126160" cy="338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Listbox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40000" y="1260360"/>
                  <a:ext cx="2315880" cy="338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2856240" y="1260360"/>
                <a:ext cx="2919240" cy="721080"/>
                <a:chOff x="2856240" y="1260360"/>
                <a:chExt cx="2919240" cy="7210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950920" y="126036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856240" y="126036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5776200" y="1260360"/>
                <a:ext cx="2598120" cy="721080"/>
                <a:chOff x="5776200" y="1260360"/>
                <a:chExt cx="2598120" cy="72108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5870880" y="126036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776200" y="126036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2856240" y="1982160"/>
                <a:ext cx="2919240" cy="721440"/>
                <a:chOff x="2856240" y="1982160"/>
                <a:chExt cx="2919240" cy="72144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2950920" y="1982160"/>
                  <a:ext cx="2729880" cy="72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856240" y="1982160"/>
                  <a:ext cx="2919240" cy="72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5776200" y="1982160"/>
                <a:ext cx="2598120" cy="721440"/>
                <a:chOff x="5776200" y="1982160"/>
                <a:chExt cx="2598120" cy="7214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5870880" y="1982160"/>
                  <a:ext cx="2408400" cy="72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rea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776200" y="1982160"/>
                  <a:ext cx="2598120" cy="72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2856240" y="2704320"/>
                <a:ext cx="2919240" cy="721080"/>
                <a:chOff x="2856240" y="2704320"/>
                <a:chExt cx="2919240" cy="72108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2950920" y="270432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temHeigh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856240" y="270432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5776200" y="2704320"/>
                <a:ext cx="2598120" cy="721080"/>
                <a:chOff x="5776200" y="2704320"/>
                <a:chExt cx="2598120" cy="72108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5870880" y="270432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776200" y="270432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2856240" y="3425760"/>
                <a:ext cx="2919240" cy="1218960"/>
                <a:chOff x="2856240" y="3425760"/>
                <a:chExt cx="2919240" cy="121896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2950920" y="3425760"/>
                  <a:ext cx="2729880" cy="12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tems.String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2856240" y="3425760"/>
                  <a:ext cx="2919240" cy="12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776200" y="3425760"/>
                <a:ext cx="2598120" cy="1218960"/>
                <a:chOff x="5776200" y="3425760"/>
                <a:chExt cx="2598120" cy="121896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870880" y="3425760"/>
                  <a:ext cx="2408400" cy="12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(‘1000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50000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9600000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13489284’)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776200" y="3425760"/>
                  <a:ext cx="2598120" cy="12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540000" y="4645440"/>
                <a:ext cx="2315880" cy="721080"/>
                <a:chOff x="540000" y="4645440"/>
                <a:chExt cx="2315880" cy="7210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634680" y="4645440"/>
                  <a:ext cx="2126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40000" y="4645440"/>
                  <a:ext cx="23158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856240" y="4645440"/>
                <a:ext cx="2919240" cy="721080"/>
                <a:chOff x="2856240" y="4645440"/>
                <a:chExt cx="2919240" cy="7210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0920" y="464544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856240" y="464544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5776200" y="4645440"/>
                <a:ext cx="2598120" cy="721080"/>
                <a:chOff x="5776200" y="4645440"/>
                <a:chExt cx="2598120" cy="7210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5870880" y="464544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776200" y="464544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540000" y="5367240"/>
                <a:ext cx="2315880" cy="721080"/>
                <a:chOff x="540000" y="5367240"/>
                <a:chExt cx="2315880" cy="7210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34680" y="5367240"/>
                  <a:ext cx="2126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40000" y="5367240"/>
                  <a:ext cx="23158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2856240" y="5367240"/>
                <a:ext cx="2919240" cy="721080"/>
                <a:chOff x="2856240" y="5367240"/>
                <a:chExt cx="2919240" cy="7210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2950920" y="536724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856240" y="536724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5776200" y="5367240"/>
                <a:ext cx="2598120" cy="721080"/>
                <a:chOff x="5776200" y="5367240"/>
                <a:chExt cx="2598120" cy="7210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870880" y="536724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776200" y="536724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2" name=""/>
            <p:cNvSpPr/>
            <p:nvPr/>
          </p:nvSpPr>
          <p:spPr>
            <a:xfrm>
              <a:off x="533520" y="533520"/>
              <a:ext cx="7848000" cy="556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2004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715000" cy="384948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2133720" y="5257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9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Combo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y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ropDownCou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Heigh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ort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718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3271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7400" y="5029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管理驱动程序的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36482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46520" cy="384336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1828800" y="5486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8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Combo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298116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81840" cy="358272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12952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9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Combo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0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LookupList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1371600" y="1752480"/>
            <a:ext cx="5740200" cy="4114800"/>
            <a:chOff x="1371600" y="1752480"/>
            <a:chExt cx="5740200" cy="4114800"/>
          </a:xfrm>
        </p:grpSpPr>
        <p:grpSp>
          <p:nvGrpSpPr>
            <p:cNvPr id="1459" name=""/>
            <p:cNvGrpSpPr/>
            <p:nvPr/>
          </p:nvGrpSpPr>
          <p:grpSpPr>
            <a:xfrm>
              <a:off x="1376280" y="1756440"/>
              <a:ext cx="5730840" cy="4106160"/>
              <a:chOff x="1376280" y="1756440"/>
              <a:chExt cx="5730840" cy="4106160"/>
            </a:xfrm>
          </p:grpSpPr>
          <p:grpSp>
            <p:nvGrpSpPr>
              <p:cNvPr id="1460" name=""/>
              <p:cNvGrpSpPr/>
              <p:nvPr/>
            </p:nvGrpSpPr>
            <p:grpSpPr>
              <a:xfrm>
                <a:off x="1376280" y="1756440"/>
                <a:ext cx="1590840" cy="513000"/>
                <a:chOff x="1376280" y="1756440"/>
                <a:chExt cx="1590840" cy="51300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1444680" y="1756440"/>
                  <a:ext cx="14540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376280" y="1756440"/>
                  <a:ext cx="159084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2967120" y="1756440"/>
                <a:ext cx="2203200" cy="513000"/>
                <a:chOff x="2967120" y="1756440"/>
                <a:chExt cx="2203200" cy="51300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3035160" y="175644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967120" y="175644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5170320" y="1756440"/>
                <a:ext cx="1936800" cy="513000"/>
                <a:chOff x="5170320" y="1756440"/>
                <a:chExt cx="1936800" cy="51300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5238720" y="175644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170320" y="175644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1376280" y="2269440"/>
                <a:ext cx="1590840" cy="1539720"/>
                <a:chOff x="1376280" y="2269440"/>
                <a:chExt cx="1590840" cy="15397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1444680" y="2269440"/>
                  <a:ext cx="1454040" cy="15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1376280" y="2269440"/>
                  <a:ext cx="1590840" cy="15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2967120" y="2269440"/>
                <a:ext cx="2203200" cy="513000"/>
                <a:chOff x="2967120" y="2269440"/>
                <a:chExt cx="2203200" cy="51300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3035160" y="226944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2967120" y="226944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5170320" y="2269440"/>
                <a:ext cx="1936800" cy="513000"/>
                <a:chOff x="5170320" y="2269440"/>
                <a:chExt cx="1936800" cy="51300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5238720" y="226944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170320" y="226944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2967120" y="2782800"/>
                <a:ext cx="2203200" cy="513360"/>
                <a:chOff x="2967120" y="2782800"/>
                <a:chExt cx="2203200" cy="51336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3035160" y="2782800"/>
                  <a:ext cx="20671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967120" y="2782800"/>
                  <a:ext cx="22032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5170320" y="2782800"/>
                <a:ext cx="1936800" cy="513360"/>
                <a:chOff x="5170320" y="2782800"/>
                <a:chExt cx="1936800" cy="5133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5238720" y="2782800"/>
                  <a:ext cx="18000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170320" y="2782800"/>
                  <a:ext cx="19368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967120" y="3296160"/>
                <a:ext cx="2203200" cy="513000"/>
                <a:chOff x="2967120" y="3296160"/>
                <a:chExt cx="2203200" cy="51300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3035160" y="329616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967120" y="329616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5170320" y="3296160"/>
                <a:ext cx="1936800" cy="513000"/>
                <a:chOff x="5170320" y="3296160"/>
                <a:chExt cx="1936800" cy="51300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5238720" y="329616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5170320" y="329616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1376280" y="3809520"/>
                <a:ext cx="1590840" cy="2053080"/>
                <a:chOff x="1376280" y="3809520"/>
                <a:chExt cx="1590840" cy="205308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1444680" y="3809520"/>
                  <a:ext cx="1454040" cy="20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376280" y="3809520"/>
                  <a:ext cx="1590840" cy="205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2967120" y="3809520"/>
                <a:ext cx="2203200" cy="513000"/>
                <a:chOff x="2967120" y="3809520"/>
                <a:chExt cx="2203200" cy="51300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3035160" y="380952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967120" y="380952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5170320" y="3809520"/>
                <a:ext cx="1936800" cy="513000"/>
                <a:chOff x="5170320" y="3809520"/>
                <a:chExt cx="1936800" cy="51300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5238720" y="380952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170320" y="380952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2967120" y="4322880"/>
                <a:ext cx="2203200" cy="513000"/>
                <a:chOff x="2967120" y="4322880"/>
                <a:chExt cx="2203200" cy="51300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3035160" y="432288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2967120" y="432288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5170320" y="4322880"/>
                <a:ext cx="1936800" cy="513000"/>
                <a:chOff x="5170320" y="4322880"/>
                <a:chExt cx="1936800" cy="51300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5238720" y="432288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s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5170320" y="432288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2967120" y="4835880"/>
                <a:ext cx="2203200" cy="513360"/>
                <a:chOff x="2967120" y="4835880"/>
                <a:chExt cx="2203200" cy="5133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3035160" y="4835880"/>
                  <a:ext cx="20671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dexFieldName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2967120" y="4835880"/>
                  <a:ext cx="22032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5170320" y="4835880"/>
                <a:ext cx="1936800" cy="513360"/>
                <a:chOff x="5170320" y="4835880"/>
                <a:chExt cx="1936800" cy="51336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5238720" y="4835880"/>
                  <a:ext cx="18000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5170320" y="4835880"/>
                  <a:ext cx="19368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2967120" y="5349600"/>
                <a:ext cx="2203200" cy="513000"/>
                <a:chOff x="2967120" y="5349600"/>
                <a:chExt cx="2203200" cy="51300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3035160" y="534960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Master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967120" y="534960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5170320" y="5349600"/>
                <a:ext cx="1936800" cy="513000"/>
                <a:chOff x="5170320" y="5349600"/>
                <a:chExt cx="1936800" cy="51300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5238720" y="534960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5170320" y="534960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7" name=""/>
            <p:cNvSpPr/>
            <p:nvPr/>
          </p:nvSpPr>
          <p:spPr>
            <a:xfrm>
              <a:off x="1371600" y="1752480"/>
              <a:ext cx="574020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7104960" y="2133720"/>
            <a:ext cx="91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4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"/>
          <p:cNvGrpSpPr/>
          <p:nvPr/>
        </p:nvGrpSpPr>
        <p:grpSpPr>
          <a:xfrm>
            <a:off x="1143000" y="533520"/>
            <a:ext cx="6273360" cy="5715000"/>
            <a:chOff x="1143000" y="533520"/>
            <a:chExt cx="6273360" cy="5715000"/>
          </a:xfrm>
        </p:grpSpPr>
        <p:grpSp>
          <p:nvGrpSpPr>
            <p:cNvPr id="1520" name=""/>
            <p:cNvGrpSpPr/>
            <p:nvPr/>
          </p:nvGrpSpPr>
          <p:grpSpPr>
            <a:xfrm>
              <a:off x="1148040" y="537480"/>
              <a:ext cx="6262560" cy="5706360"/>
              <a:chOff x="1148040" y="537480"/>
              <a:chExt cx="6262560" cy="5706360"/>
            </a:xfrm>
          </p:grpSpPr>
          <p:grpSp>
            <p:nvGrpSpPr>
              <p:cNvPr id="1521" name=""/>
              <p:cNvGrpSpPr/>
              <p:nvPr/>
            </p:nvGrpSpPr>
            <p:grpSpPr>
              <a:xfrm>
                <a:off x="1148040" y="537480"/>
                <a:ext cx="1738080" cy="1037160"/>
                <a:chOff x="1148040" y="537480"/>
                <a:chExt cx="1738080" cy="103716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1222560" y="537480"/>
                  <a:ext cx="1588680" cy="10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1148040" y="537480"/>
                  <a:ext cx="1738080" cy="103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2886480" y="537480"/>
                <a:ext cx="2407320" cy="518400"/>
                <a:chOff x="2886480" y="537480"/>
                <a:chExt cx="2407320" cy="51840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2960640" y="53748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Master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2886480" y="53748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5294520" y="537480"/>
                <a:ext cx="2116080" cy="518400"/>
                <a:chOff x="5294520" y="537480"/>
                <a:chExt cx="2116080" cy="51840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5369040" y="53748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5294520" y="53748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2886480" y="1055880"/>
                <a:ext cx="2407320" cy="518400"/>
                <a:chOff x="2886480" y="1055880"/>
                <a:chExt cx="2407320" cy="51840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960640" y="105588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886480" y="105588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5294520" y="1055880"/>
                <a:ext cx="2116080" cy="518400"/>
                <a:chOff x="5294520" y="1055880"/>
                <a:chExt cx="2116080" cy="51840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5369040" y="105588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294520" y="105588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1148040" y="1574640"/>
                <a:ext cx="1738080" cy="518760"/>
                <a:chOff x="1148040" y="1574640"/>
                <a:chExt cx="1738080" cy="51876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1222560" y="1574640"/>
                  <a:ext cx="1588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1148040" y="1574640"/>
                  <a:ext cx="1738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2886480" y="1574640"/>
                <a:ext cx="2407320" cy="518760"/>
                <a:chOff x="2886480" y="1574640"/>
                <a:chExt cx="2407320" cy="51876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2960640" y="1574640"/>
                  <a:ext cx="2258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2886480" y="1574640"/>
                  <a:ext cx="24073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5294520" y="1574640"/>
                <a:ext cx="2116080" cy="518760"/>
                <a:chOff x="5294520" y="1574640"/>
                <a:chExt cx="2116080" cy="51876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5369040" y="1574640"/>
                  <a:ext cx="19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5294520" y="1574640"/>
                  <a:ext cx="2116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1148040" y="2093760"/>
                <a:ext cx="1738080" cy="518400"/>
                <a:chOff x="1148040" y="2093760"/>
                <a:chExt cx="1738080" cy="51840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1222560" y="209376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1148040" y="209376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2886480" y="2093760"/>
                <a:ext cx="2407320" cy="518400"/>
                <a:chOff x="2886480" y="2093760"/>
                <a:chExt cx="2407320" cy="51840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2960640" y="209376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2886480" y="209376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5294520" y="2093760"/>
                <a:ext cx="2116080" cy="518400"/>
                <a:chOff x="5294520" y="2093760"/>
                <a:chExt cx="2116080" cy="5184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369040" y="209376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294520" y="209376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1148040" y="2612520"/>
                <a:ext cx="1738080" cy="518400"/>
                <a:chOff x="1148040" y="2612520"/>
                <a:chExt cx="1738080" cy="51840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1222560" y="261252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1148040" y="261252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7" name=""/>
              <p:cNvGrpSpPr/>
              <p:nvPr/>
            </p:nvGrpSpPr>
            <p:grpSpPr>
              <a:xfrm>
                <a:off x="2886480" y="2612520"/>
                <a:ext cx="2407320" cy="518400"/>
                <a:chOff x="2886480" y="2612520"/>
                <a:chExt cx="2407320" cy="51840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2960640" y="261252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2886480" y="261252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5294520" y="2612520"/>
                <a:ext cx="2116080" cy="518400"/>
                <a:chOff x="5294520" y="2612520"/>
                <a:chExt cx="2116080" cy="51840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5369040" y="261252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294520" y="261252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1148040" y="3131280"/>
                <a:ext cx="1738080" cy="1556280"/>
                <a:chOff x="1148040" y="3131280"/>
                <a:chExt cx="1738080" cy="155628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1222560" y="3131280"/>
                  <a:ext cx="158868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LookupListBox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1148040" y="3131280"/>
                  <a:ext cx="1738080" cy="155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2886480" y="3131280"/>
                <a:ext cx="2407320" cy="518400"/>
                <a:chOff x="2886480" y="3131280"/>
                <a:chExt cx="2407320" cy="518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2960640" y="313128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ist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886480" y="313128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5294520" y="3131280"/>
                <a:ext cx="2116080" cy="518400"/>
                <a:chOff x="5294520" y="3131280"/>
                <a:chExt cx="2116080" cy="51840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369040" y="313128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5294520" y="313128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2886480" y="3650040"/>
                <a:ext cx="2407320" cy="518760"/>
                <a:chOff x="2886480" y="3650040"/>
                <a:chExt cx="2407320" cy="51876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2960640" y="3650040"/>
                  <a:ext cx="2258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ey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886480" y="3650040"/>
                  <a:ext cx="24073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5294520" y="3650040"/>
                <a:ext cx="2116080" cy="518760"/>
                <a:chOff x="5294520" y="3650040"/>
                <a:chExt cx="2116080" cy="51876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5369040" y="3650040"/>
                  <a:ext cx="19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5294520" y="3650040"/>
                  <a:ext cx="2116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2886480" y="4168800"/>
                <a:ext cx="2407320" cy="518400"/>
                <a:chOff x="2886480" y="4168800"/>
                <a:chExt cx="2407320" cy="5184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2960640" y="416880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ist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886480" y="416880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5294520" y="4168800"/>
                <a:ext cx="2116080" cy="518400"/>
                <a:chOff x="5294520" y="4168800"/>
                <a:chExt cx="2116080" cy="51840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5369040" y="416880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5294520" y="416880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1148040" y="4687560"/>
                <a:ext cx="1738080" cy="518400"/>
                <a:chOff x="1148040" y="4687560"/>
                <a:chExt cx="1738080" cy="51840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1222560" y="468756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1148040" y="468756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2886480" y="4687560"/>
                <a:ext cx="2407320" cy="518400"/>
                <a:chOff x="2886480" y="4687560"/>
                <a:chExt cx="2407320" cy="51840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2960640" y="468756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2886480" y="468756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5294520" y="4687560"/>
                <a:ext cx="2116080" cy="518400"/>
                <a:chOff x="5294520" y="4687560"/>
                <a:chExt cx="2116080" cy="5184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5369040" y="468756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5294520" y="468756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1148040" y="5206320"/>
                <a:ext cx="1738080" cy="518400"/>
                <a:chOff x="1148040" y="5206320"/>
                <a:chExt cx="1738080" cy="5184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222560" y="520632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1148040" y="520632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2886480" y="5206320"/>
                <a:ext cx="2407320" cy="518400"/>
                <a:chOff x="2886480" y="5206320"/>
                <a:chExt cx="2407320" cy="51840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2960640" y="520632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886480" y="520632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5294520" y="5206320"/>
                <a:ext cx="2116080" cy="518400"/>
                <a:chOff x="5294520" y="5206320"/>
                <a:chExt cx="2116080" cy="51840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5369040" y="520632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294520" y="520632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1148040" y="5725080"/>
                <a:ext cx="1738080" cy="518760"/>
                <a:chOff x="1148040" y="5725080"/>
                <a:chExt cx="1738080" cy="5187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1222560" y="5725080"/>
                  <a:ext cx="1588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1148040" y="5725080"/>
                  <a:ext cx="1738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2886480" y="5725080"/>
                <a:ext cx="2407320" cy="518760"/>
                <a:chOff x="2886480" y="5725080"/>
                <a:chExt cx="2407320" cy="51876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2960640" y="5725080"/>
                  <a:ext cx="2258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886480" y="5725080"/>
                  <a:ext cx="24073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5294520" y="5725080"/>
                <a:ext cx="2116080" cy="518760"/>
                <a:chOff x="5294520" y="5725080"/>
                <a:chExt cx="2116080" cy="51876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5369040" y="5725080"/>
                  <a:ext cx="19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 no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：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5294520" y="5725080"/>
                  <a:ext cx="2116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1" name=""/>
            <p:cNvSpPr/>
            <p:nvPr/>
          </p:nvSpPr>
          <p:spPr>
            <a:xfrm>
              <a:off x="1143000" y="533520"/>
              <a:ext cx="6273360" cy="571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33289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1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48400" cy="3365640"/>
          </a:xfrm>
          <a:prstGeom prst="rect">
            <a:avLst/>
          </a:prstGeom>
          <a:ln w="0">
            <a:noFill/>
          </a:ln>
        </p:spPr>
      </p:pic>
      <p:sp>
        <p:nvSpPr>
          <p:cNvPr id="1614" name=""/>
          <p:cNvSpPr/>
          <p:nvPr/>
        </p:nvSpPr>
        <p:spPr>
          <a:xfrm>
            <a:off x="1981080" y="52578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Lookuplist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6.6.11 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TDBLookupComboBox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ookup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外观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相同，但显示在组合框中的数据也来自于查询数据表。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ookup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有关查询条件的设置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ookup-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相同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2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Check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Check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是把字段的值与预设的两个字符串比较，分别由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Un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指定。如果字段的值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指定的字符串相匹配，则选中复选框。如果字段的值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Un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指定的字符串相匹配，则不选中复选框。但这两个属性中的内容对逻辑字段本身是不起任何作用的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RadioGrou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23" name=""/>
          <p:cNvSpPr/>
          <p:nvPr/>
        </p:nvSpPr>
        <p:spPr>
          <a:xfrm>
            <a:off x="26668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5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95280" y="2362320"/>
            <a:ext cx="6260760" cy="3809520"/>
            <a:chOff x="1295280" y="2362320"/>
            <a:chExt cx="6260760" cy="3809520"/>
          </a:xfrm>
        </p:grpSpPr>
        <p:grpSp>
          <p:nvGrpSpPr>
            <p:cNvPr id="1625" name=""/>
            <p:cNvGrpSpPr/>
            <p:nvPr/>
          </p:nvGrpSpPr>
          <p:grpSpPr>
            <a:xfrm>
              <a:off x="1300320" y="2367000"/>
              <a:ext cx="6249960" cy="3798720"/>
              <a:chOff x="1300320" y="2367000"/>
              <a:chExt cx="6249960" cy="379872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1300320" y="2367000"/>
                <a:ext cx="1663560" cy="632520"/>
                <a:chOff x="1300320" y="2367000"/>
                <a:chExt cx="1663560" cy="63252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1375920" y="2367000"/>
                  <a:ext cx="1512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1300320" y="2367000"/>
                  <a:ext cx="166356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2964240" y="2367000"/>
                <a:ext cx="2440440" cy="632520"/>
                <a:chOff x="2964240" y="2367000"/>
                <a:chExt cx="2440440" cy="6325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3039480" y="236700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964240" y="236700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5405040" y="2367000"/>
                <a:ext cx="2145240" cy="632520"/>
                <a:chOff x="5405040" y="2367000"/>
                <a:chExt cx="2145240" cy="6325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5480640" y="236700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405040" y="236700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1300320" y="2999880"/>
                <a:ext cx="1663560" cy="1899360"/>
                <a:chOff x="1300320" y="2999880"/>
                <a:chExt cx="1663560" cy="189936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1375920" y="2999880"/>
                  <a:ext cx="1512000" cy="189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1300320" y="2999880"/>
                  <a:ext cx="1663560" cy="189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2964240" y="2999880"/>
                <a:ext cx="2440440" cy="632520"/>
                <a:chOff x="2964240" y="2999880"/>
                <a:chExt cx="2440440" cy="63252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3039480" y="299988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2964240" y="299988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5405040" y="2999880"/>
                <a:ext cx="2145240" cy="632520"/>
                <a:chOff x="5405040" y="2999880"/>
                <a:chExt cx="2145240" cy="6325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5480640" y="299988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405040" y="299988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2964240" y="3633120"/>
                <a:ext cx="2440440" cy="632880"/>
                <a:chOff x="2964240" y="3633120"/>
                <a:chExt cx="2440440" cy="63288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3039480" y="3633120"/>
                  <a:ext cx="2289960" cy="63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2964240" y="3633120"/>
                  <a:ext cx="2440440" cy="63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5405040" y="3633120"/>
                <a:ext cx="2145240" cy="632880"/>
                <a:chOff x="5405040" y="3633120"/>
                <a:chExt cx="2145240" cy="63288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5480640" y="3633120"/>
                  <a:ext cx="1994400" cy="63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untry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405040" y="3633120"/>
                  <a:ext cx="2145240" cy="63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2964240" y="4266720"/>
                <a:ext cx="2440440" cy="632520"/>
                <a:chOff x="2964240" y="4266720"/>
                <a:chExt cx="2440440" cy="63252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3039480" y="426672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2964240" y="426672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5405040" y="4266720"/>
                <a:ext cx="2145240" cy="632520"/>
                <a:chOff x="5405040" y="4266720"/>
                <a:chExt cx="2145240" cy="6325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5480640" y="426672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405040" y="426672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1300320" y="4899960"/>
                <a:ext cx="1663560" cy="632520"/>
                <a:chOff x="1300320" y="4899960"/>
                <a:chExt cx="1663560" cy="6325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1375920" y="4899960"/>
                  <a:ext cx="1512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300320" y="4899960"/>
                  <a:ext cx="166356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2964240" y="4899960"/>
                <a:ext cx="2440440" cy="632520"/>
                <a:chOff x="2964240" y="4899960"/>
                <a:chExt cx="2440440" cy="63252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3039480" y="489996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964240" y="489996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5405040" y="4899960"/>
                <a:ext cx="2145240" cy="632520"/>
                <a:chOff x="5405040" y="4899960"/>
                <a:chExt cx="2145240" cy="63252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5480640" y="489996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5405040" y="489996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1300320" y="5533200"/>
                <a:ext cx="1663560" cy="632520"/>
                <a:chOff x="1300320" y="5533200"/>
                <a:chExt cx="1663560" cy="632520"/>
              </a:xfrm>
            </p:grpSpPr>
            <p:sp>
              <p:nvSpPr>
                <p:cNvPr id="1666" name=""/>
                <p:cNvSpPr/>
                <p:nvPr/>
              </p:nvSpPr>
              <p:spPr>
                <a:xfrm>
                  <a:off x="1375920" y="5533200"/>
                  <a:ext cx="1512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300320" y="5533200"/>
                  <a:ext cx="166356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2964240" y="5533200"/>
                <a:ext cx="2440440" cy="632520"/>
                <a:chOff x="2964240" y="5533200"/>
                <a:chExt cx="2440440" cy="63252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3039480" y="553320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964240" y="553320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405040" y="5533200"/>
                <a:ext cx="2145240" cy="632520"/>
                <a:chOff x="5405040" y="5533200"/>
                <a:chExt cx="2145240" cy="63252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5480640" y="553320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405040" y="553320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4" name=""/>
            <p:cNvSpPr/>
            <p:nvPr/>
          </p:nvSpPr>
          <p:spPr>
            <a:xfrm>
              <a:off x="1295280" y="2362320"/>
              <a:ext cx="6260760" cy="3809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5" name=""/>
          <p:cNvGrpSpPr/>
          <p:nvPr/>
        </p:nvGrpSpPr>
        <p:grpSpPr>
          <a:xfrm>
            <a:off x="685800" y="1219320"/>
            <a:ext cx="7848360" cy="4284360"/>
            <a:chOff x="685800" y="1219320"/>
            <a:chExt cx="7848360" cy="4284360"/>
          </a:xfrm>
        </p:grpSpPr>
        <p:grpSp>
          <p:nvGrpSpPr>
            <p:cNvPr id="1676" name=""/>
            <p:cNvGrpSpPr/>
            <p:nvPr/>
          </p:nvGrpSpPr>
          <p:grpSpPr>
            <a:xfrm>
              <a:off x="692280" y="1224360"/>
              <a:ext cx="7834680" cy="4273200"/>
              <a:chOff x="692280" y="1224360"/>
              <a:chExt cx="7834680" cy="4273200"/>
            </a:xfrm>
          </p:grpSpPr>
          <p:grpSp>
            <p:nvGrpSpPr>
              <p:cNvPr id="1677" name=""/>
              <p:cNvGrpSpPr/>
              <p:nvPr/>
            </p:nvGrpSpPr>
            <p:grpSpPr>
              <a:xfrm>
                <a:off x="692280" y="1224360"/>
                <a:ext cx="2085120" cy="2949840"/>
                <a:chOff x="692280" y="1224360"/>
                <a:chExt cx="2085120" cy="294984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786960" y="1224360"/>
                  <a:ext cx="1895400" cy="294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RadioGroup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92280" y="1224360"/>
                  <a:ext cx="2085120" cy="29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2777760" y="1224360"/>
                <a:ext cx="3059280" cy="660960"/>
                <a:chOff x="2777760" y="1224360"/>
                <a:chExt cx="3059280" cy="66096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2872080" y="1224360"/>
                  <a:ext cx="287028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2777760" y="1224360"/>
                  <a:ext cx="305928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5837760" y="1224360"/>
                <a:ext cx="2689200" cy="660960"/>
                <a:chOff x="5837760" y="1224360"/>
                <a:chExt cx="2689200" cy="66096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5932440" y="1224360"/>
                  <a:ext cx="249984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37760" y="1224360"/>
                  <a:ext cx="268920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2777760" y="1885680"/>
                <a:ext cx="3059280" cy="660960"/>
                <a:chOff x="2777760" y="1885680"/>
                <a:chExt cx="3059280" cy="660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2872080" y="1885680"/>
                  <a:ext cx="287028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777760" y="1885680"/>
                  <a:ext cx="305928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5837760" y="1885680"/>
                <a:ext cx="2689200" cy="660960"/>
                <a:chOff x="5837760" y="1885680"/>
                <a:chExt cx="2689200" cy="66096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5932440" y="1885680"/>
                  <a:ext cx="249984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ntinen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837760" y="1885680"/>
                  <a:ext cx="268920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2777760" y="2547360"/>
                <a:ext cx="3059280" cy="661320"/>
                <a:chOff x="2777760" y="2547360"/>
                <a:chExt cx="3059280" cy="66132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2872080" y="2547360"/>
                  <a:ext cx="287028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777760" y="2547360"/>
                  <a:ext cx="305928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5837760" y="2547360"/>
                <a:ext cx="2689200" cy="661320"/>
                <a:chOff x="5837760" y="2547360"/>
                <a:chExt cx="2689200" cy="661320"/>
              </a:xfrm>
            </p:grpSpPr>
            <p:sp>
              <p:nvSpPr>
                <p:cNvPr id="1696" name=""/>
                <p:cNvSpPr/>
                <p:nvPr/>
              </p:nvSpPr>
              <p:spPr>
                <a:xfrm>
                  <a:off x="5932440" y="2547360"/>
                  <a:ext cx="249984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所在洲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837760" y="2547360"/>
                  <a:ext cx="268920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2777760" y="3209040"/>
                <a:ext cx="3059280" cy="965160"/>
                <a:chOff x="2777760" y="3209040"/>
                <a:chExt cx="3059280" cy="96516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2872080" y="3209040"/>
                  <a:ext cx="2870280" cy="96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tems.String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7760" y="3209040"/>
                  <a:ext cx="3059280" cy="96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5837760" y="3209040"/>
                <a:ext cx="2689200" cy="965160"/>
                <a:chOff x="5837760" y="3209040"/>
                <a:chExt cx="2689200" cy="96516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5932440" y="3209040"/>
                  <a:ext cx="2499840" cy="96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(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sia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outh America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orth America’)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837760" y="3209040"/>
                  <a:ext cx="2689200" cy="96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692280" y="4174560"/>
                <a:ext cx="2085120" cy="661320"/>
                <a:chOff x="692280" y="4174560"/>
                <a:chExt cx="2085120" cy="6613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86960" y="4174560"/>
                  <a:ext cx="189540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92280" y="4174560"/>
                  <a:ext cx="208512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2777760" y="4174560"/>
                <a:ext cx="3059280" cy="661320"/>
                <a:chOff x="2777760" y="4174560"/>
                <a:chExt cx="3059280" cy="661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2872080" y="4174560"/>
                  <a:ext cx="287028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777760" y="4174560"/>
                  <a:ext cx="305928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5837760" y="4174560"/>
                <a:ext cx="2689200" cy="661320"/>
                <a:chOff x="5837760" y="4174560"/>
                <a:chExt cx="2689200" cy="66132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5932440" y="4174560"/>
                  <a:ext cx="249984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837760" y="4174560"/>
                  <a:ext cx="268920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692280" y="4836600"/>
                <a:ext cx="2085120" cy="660960"/>
                <a:chOff x="692280" y="4836600"/>
                <a:chExt cx="2085120" cy="66096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786960" y="4836600"/>
                  <a:ext cx="189540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92280" y="4836600"/>
                  <a:ext cx="208512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2777760" y="4836600"/>
                <a:ext cx="3059280" cy="660960"/>
                <a:chOff x="2777760" y="4836600"/>
                <a:chExt cx="3059280" cy="66096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2872080" y="4836600"/>
                  <a:ext cx="287028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777760" y="4836600"/>
                  <a:ext cx="305928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5837760" y="4836600"/>
                <a:ext cx="2689200" cy="660960"/>
                <a:chOff x="5837760" y="4836600"/>
                <a:chExt cx="2689200" cy="66096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5932440" y="4836600"/>
                  <a:ext cx="249984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837760" y="4836600"/>
                  <a:ext cx="268920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2" name=""/>
            <p:cNvSpPr/>
            <p:nvPr/>
          </p:nvSpPr>
          <p:spPr>
            <a:xfrm>
              <a:off x="685800" y="1219320"/>
              <a:ext cx="7848360" cy="4284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33148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610160" cy="3352680"/>
          </a:xfrm>
          <a:prstGeom prst="rect">
            <a:avLst/>
          </a:prstGeom>
          <a:ln w="0">
            <a:noFill/>
          </a:ln>
        </p:spPr>
      </p:pic>
      <p:sp>
        <p:nvSpPr>
          <p:cNvPr id="1725" name=""/>
          <p:cNvSpPr/>
          <p:nvPr/>
        </p:nvSpPr>
        <p:spPr>
          <a:xfrm>
            <a:off x="1905120" y="4968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RadioGrou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574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91320" cy="3133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81080" y="5334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的系统配置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其他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trl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表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1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、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6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TDBRich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ha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2362320" y="25909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"/>
          <p:cNvGrpSpPr/>
          <p:nvPr/>
        </p:nvGrpSpPr>
        <p:grpSpPr>
          <a:xfrm>
            <a:off x="1447920" y="762120"/>
            <a:ext cx="5680080" cy="5352840"/>
            <a:chOff x="1447920" y="762120"/>
            <a:chExt cx="5680080" cy="5352840"/>
          </a:xfrm>
        </p:grpSpPr>
        <p:grpSp>
          <p:nvGrpSpPr>
            <p:cNvPr id="1731" name=""/>
            <p:cNvGrpSpPr/>
            <p:nvPr/>
          </p:nvGrpSpPr>
          <p:grpSpPr>
            <a:xfrm>
              <a:off x="1452600" y="766800"/>
              <a:ext cx="5670720" cy="5343480"/>
              <a:chOff x="1452600" y="766800"/>
              <a:chExt cx="5670720" cy="534348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1452600" y="766800"/>
                <a:ext cx="1789200" cy="593640"/>
                <a:chOff x="1452600" y="766800"/>
                <a:chExt cx="1789200" cy="5936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521000" y="76680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452600" y="76680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3241800" y="766800"/>
                <a:ext cx="2095560" cy="593640"/>
                <a:chOff x="3241800" y="766800"/>
                <a:chExt cx="2095560" cy="59364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09840" y="76680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241800" y="76680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8" name=""/>
              <p:cNvGrpSpPr/>
              <p:nvPr/>
            </p:nvGrpSpPr>
            <p:grpSpPr>
              <a:xfrm>
                <a:off x="5337360" y="766800"/>
                <a:ext cx="1785960" cy="593640"/>
                <a:chOff x="5337360" y="766800"/>
                <a:chExt cx="1785960" cy="59364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5405400" y="76680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337360" y="76680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452600" y="1360440"/>
                <a:ext cx="1789200" cy="1781280"/>
                <a:chOff x="1452600" y="1360440"/>
                <a:chExt cx="1789200" cy="17812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1521000" y="1360440"/>
                  <a:ext cx="1652400" cy="17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452600" y="1360440"/>
                  <a:ext cx="1789200" cy="17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4" name=""/>
              <p:cNvGrpSpPr/>
              <p:nvPr/>
            </p:nvGrpSpPr>
            <p:grpSpPr>
              <a:xfrm>
                <a:off x="3241800" y="1360440"/>
                <a:ext cx="2095560" cy="593640"/>
                <a:chOff x="3241800" y="1360440"/>
                <a:chExt cx="2095560" cy="59364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3309840" y="136044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3241800" y="136044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7" name=""/>
              <p:cNvGrpSpPr/>
              <p:nvPr/>
            </p:nvGrpSpPr>
            <p:grpSpPr>
              <a:xfrm>
                <a:off x="5337360" y="1360440"/>
                <a:ext cx="1785960" cy="593640"/>
                <a:chOff x="5337360" y="1360440"/>
                <a:chExt cx="1785960" cy="593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5405400" y="136044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337360" y="136044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3241800" y="1954080"/>
                <a:ext cx="2095560" cy="594000"/>
                <a:chOff x="3241800" y="1954080"/>
                <a:chExt cx="2095560" cy="59400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3309840" y="1954080"/>
                  <a:ext cx="1959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241800" y="1954080"/>
                  <a:ext cx="2095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5337360" y="1954080"/>
                <a:ext cx="1785960" cy="594000"/>
                <a:chOff x="5337360" y="1954080"/>
                <a:chExt cx="1785960" cy="59400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5405400" y="1954080"/>
                  <a:ext cx="164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nimal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337360" y="1954080"/>
                  <a:ext cx="1785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"/>
              <p:cNvGrpSpPr/>
              <p:nvPr/>
            </p:nvGrpSpPr>
            <p:grpSpPr>
              <a:xfrm>
                <a:off x="3241800" y="2548080"/>
                <a:ext cx="2095560" cy="593640"/>
                <a:chOff x="3241800" y="2548080"/>
                <a:chExt cx="2095560" cy="59364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3309840" y="254808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241800" y="254808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5337360" y="2548080"/>
                <a:ext cx="1785960" cy="593640"/>
                <a:chOff x="5337360" y="2548080"/>
                <a:chExt cx="1785960" cy="59364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5405400" y="254808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337360" y="254808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1452600" y="3141720"/>
                <a:ext cx="1789200" cy="593640"/>
                <a:chOff x="1452600" y="3141720"/>
                <a:chExt cx="1789200" cy="59364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1521000" y="314172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1452600" y="314172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3241800" y="3141720"/>
                <a:ext cx="2095560" cy="593640"/>
                <a:chOff x="3241800" y="3141720"/>
                <a:chExt cx="2095560" cy="59364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3309840" y="314172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241800" y="314172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5337360" y="3141720"/>
                <a:ext cx="1785960" cy="593640"/>
                <a:chOff x="5337360" y="3141720"/>
                <a:chExt cx="1785960" cy="59364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5405400" y="314172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337360" y="314172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"/>
              <p:cNvGrpSpPr/>
              <p:nvPr/>
            </p:nvGrpSpPr>
            <p:grpSpPr>
              <a:xfrm>
                <a:off x="1452600" y="3735360"/>
                <a:ext cx="1789200" cy="593640"/>
                <a:chOff x="1452600" y="3735360"/>
                <a:chExt cx="1789200" cy="59364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1521000" y="373536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1452600" y="373536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3241800" y="3735360"/>
                <a:ext cx="2095560" cy="593640"/>
                <a:chOff x="3241800" y="3735360"/>
                <a:chExt cx="2095560" cy="59364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3309840" y="373536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3241800" y="373536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5337360" y="3735360"/>
                <a:ext cx="1785960" cy="593640"/>
                <a:chOff x="5337360" y="3735360"/>
                <a:chExt cx="1785960" cy="59364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5405400" y="373536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337360" y="373536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452600" y="4329000"/>
                <a:ext cx="1789200" cy="1187640"/>
                <a:chOff x="1452600" y="4329000"/>
                <a:chExt cx="1789200" cy="118764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521000" y="4329000"/>
                  <a:ext cx="16524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Ctrl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452600" y="4329000"/>
                  <a:ext cx="1789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41800" y="4329000"/>
                <a:ext cx="2095560" cy="594000"/>
                <a:chOff x="3241800" y="4329000"/>
                <a:chExt cx="2095560" cy="59400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309840" y="4329000"/>
                  <a:ext cx="1959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41800" y="4329000"/>
                  <a:ext cx="2095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5337360" y="4329000"/>
                <a:ext cx="1785960" cy="594000"/>
                <a:chOff x="5337360" y="4329000"/>
                <a:chExt cx="1785960" cy="59400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5405400" y="4329000"/>
                  <a:ext cx="164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337360" y="4329000"/>
                  <a:ext cx="1785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3241800" y="4923000"/>
                <a:ext cx="2095560" cy="593640"/>
                <a:chOff x="3241800" y="4923000"/>
                <a:chExt cx="2095560" cy="5936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3309840" y="492300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owCoun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241800" y="492300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5337360" y="4923000"/>
                <a:ext cx="1785960" cy="593640"/>
                <a:chOff x="5337360" y="4923000"/>
                <a:chExt cx="1785960" cy="59364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5405400" y="492300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337360" y="492300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1452600" y="5516640"/>
                <a:ext cx="1789200" cy="593640"/>
                <a:chOff x="1452600" y="5516640"/>
                <a:chExt cx="1789200" cy="59364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1521000" y="551664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52600" y="551664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241800" y="5516640"/>
                <a:ext cx="2095560" cy="593640"/>
                <a:chOff x="3241800" y="5516640"/>
                <a:chExt cx="2095560" cy="59364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3309840" y="551664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241800" y="551664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5337360" y="5516640"/>
                <a:ext cx="1785960" cy="593640"/>
                <a:chOff x="5337360" y="5516640"/>
                <a:chExt cx="1785960" cy="59364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5405400" y="551664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337360" y="551664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4" name=""/>
            <p:cNvSpPr/>
            <p:nvPr/>
          </p:nvSpPr>
          <p:spPr>
            <a:xfrm>
              <a:off x="1447920" y="762120"/>
              <a:ext cx="5680080" cy="53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7181280" y="160020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6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6" name=""/>
          <p:cNvGrpSpPr/>
          <p:nvPr/>
        </p:nvGrpSpPr>
        <p:grpSpPr>
          <a:xfrm>
            <a:off x="1371600" y="685800"/>
            <a:ext cx="6060600" cy="5562720"/>
            <a:chOff x="1371600" y="685800"/>
            <a:chExt cx="6060600" cy="5562720"/>
          </a:xfrm>
        </p:grpSpPr>
        <p:grpSp>
          <p:nvGrpSpPr>
            <p:cNvPr id="1807" name=""/>
            <p:cNvGrpSpPr/>
            <p:nvPr/>
          </p:nvGrpSpPr>
          <p:grpSpPr>
            <a:xfrm>
              <a:off x="1376280" y="689760"/>
              <a:ext cx="6050160" cy="5554440"/>
              <a:chOff x="1376280" y="689760"/>
              <a:chExt cx="6050160" cy="5554440"/>
            </a:xfrm>
          </p:grpSpPr>
          <p:grpSp>
            <p:nvGrpSpPr>
              <p:cNvPr id="1808" name=""/>
              <p:cNvGrpSpPr/>
              <p:nvPr/>
            </p:nvGrpSpPr>
            <p:grpSpPr>
              <a:xfrm>
                <a:off x="1376280" y="689760"/>
                <a:ext cx="1908720" cy="504720"/>
                <a:chOff x="1376280" y="689760"/>
                <a:chExt cx="1908720" cy="50472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1449000" y="689760"/>
                  <a:ext cx="17629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376280" y="689760"/>
                  <a:ext cx="19087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3285360" y="689760"/>
                <a:ext cx="2235600" cy="504720"/>
                <a:chOff x="3285360" y="689760"/>
                <a:chExt cx="2235600" cy="50472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3357720" y="68976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3285360" y="68976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5521320" y="689760"/>
                <a:ext cx="1905120" cy="504720"/>
                <a:chOff x="5521320" y="689760"/>
                <a:chExt cx="1905120" cy="50472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5593680" y="68976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iz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521320" y="68976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1376280" y="1194480"/>
                <a:ext cx="1908720" cy="504720"/>
                <a:chOff x="1376280" y="1194480"/>
                <a:chExt cx="1908720" cy="50472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1449000" y="1194480"/>
                  <a:ext cx="17629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376280" y="1194480"/>
                  <a:ext cx="19087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3285360" y="1194480"/>
                <a:ext cx="2235600" cy="504720"/>
                <a:chOff x="3285360" y="1194480"/>
                <a:chExt cx="2235600" cy="50472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3357720" y="119448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3285360" y="119448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521320" y="1194480"/>
                <a:ext cx="1905120" cy="504720"/>
                <a:chOff x="5521320" y="1194480"/>
                <a:chExt cx="1905120" cy="50472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5593680" y="119448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Weigh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5521320" y="119448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1376280" y="1699560"/>
                <a:ext cx="1908720" cy="1009800"/>
                <a:chOff x="1376280" y="1699560"/>
                <a:chExt cx="1908720" cy="1009800"/>
              </a:xfrm>
            </p:grpSpPr>
            <p:sp>
              <p:nvSpPr>
                <p:cNvPr id="1827" name=""/>
                <p:cNvSpPr/>
                <p:nvPr/>
              </p:nvSpPr>
              <p:spPr>
                <a:xfrm>
                  <a:off x="1449000" y="169956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Imag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1376280" y="169956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9" name=""/>
              <p:cNvGrpSpPr/>
              <p:nvPr/>
            </p:nvGrpSpPr>
            <p:grpSpPr>
              <a:xfrm>
                <a:off x="3285360" y="1699560"/>
                <a:ext cx="2235600" cy="505080"/>
                <a:chOff x="3285360" y="1699560"/>
                <a:chExt cx="2235600" cy="50508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3357720" y="1699560"/>
                  <a:ext cx="2090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285360" y="1699560"/>
                  <a:ext cx="223560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5521320" y="1699560"/>
                <a:ext cx="1905120" cy="505080"/>
                <a:chOff x="5521320" y="1699560"/>
                <a:chExt cx="1905120" cy="50508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5593680" y="1699560"/>
                  <a:ext cx="17596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M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521320" y="1699560"/>
                  <a:ext cx="19051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3285360" y="2204640"/>
                <a:ext cx="2235600" cy="504720"/>
                <a:chOff x="3285360" y="2204640"/>
                <a:chExt cx="2235600" cy="504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3357720" y="220464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3285360" y="220464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8" name=""/>
              <p:cNvGrpSpPr/>
              <p:nvPr/>
            </p:nvGrpSpPr>
            <p:grpSpPr>
              <a:xfrm>
                <a:off x="5521320" y="2204640"/>
                <a:ext cx="1905120" cy="504720"/>
                <a:chOff x="5521320" y="2204640"/>
                <a:chExt cx="1905120" cy="504720"/>
              </a:xfrm>
            </p:grpSpPr>
            <p:sp>
              <p:nvSpPr>
                <p:cNvPr id="1839" name=""/>
                <p:cNvSpPr/>
                <p:nvPr/>
              </p:nvSpPr>
              <p:spPr>
                <a:xfrm>
                  <a:off x="5593680" y="220464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521320" y="220464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376280" y="2709360"/>
                <a:ext cx="1908720" cy="1009800"/>
                <a:chOff x="1376280" y="2709360"/>
                <a:chExt cx="1908720" cy="100980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449000" y="270936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376280" y="270936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4" name=""/>
              <p:cNvGrpSpPr/>
              <p:nvPr/>
            </p:nvGrpSpPr>
            <p:grpSpPr>
              <a:xfrm>
                <a:off x="3285360" y="2709360"/>
                <a:ext cx="2235600" cy="504720"/>
                <a:chOff x="3285360" y="2709360"/>
                <a:chExt cx="2235600" cy="50472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3357720" y="270936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3285360" y="270936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5521320" y="2709360"/>
                <a:ext cx="1905120" cy="504720"/>
                <a:chOff x="5521320" y="2709360"/>
                <a:chExt cx="1905120" cy="50472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5593680" y="270936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521320" y="270936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285360" y="3214440"/>
                <a:ext cx="2235600" cy="504720"/>
                <a:chOff x="3285360" y="3214440"/>
                <a:chExt cx="2235600" cy="5047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357720" y="321444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285360" y="321444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3" name=""/>
              <p:cNvGrpSpPr/>
              <p:nvPr/>
            </p:nvGrpSpPr>
            <p:grpSpPr>
              <a:xfrm>
                <a:off x="5521320" y="3214440"/>
                <a:ext cx="1905120" cy="504720"/>
                <a:chOff x="5521320" y="3214440"/>
                <a:chExt cx="1905120" cy="504720"/>
              </a:xfrm>
            </p:grpSpPr>
            <p:sp>
              <p:nvSpPr>
                <p:cNvPr id="1854" name=""/>
                <p:cNvSpPr/>
                <p:nvPr/>
              </p:nvSpPr>
              <p:spPr>
                <a:xfrm>
                  <a:off x="5593680" y="321444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521320" y="321444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376280" y="3719160"/>
                <a:ext cx="1908720" cy="1009800"/>
                <a:chOff x="1376280" y="3719160"/>
                <a:chExt cx="1908720" cy="100980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449000" y="371916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76280" y="371916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3285360" y="3719160"/>
                <a:ext cx="2235600" cy="505080"/>
                <a:chOff x="3285360" y="3719160"/>
                <a:chExt cx="2235600" cy="50508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3357720" y="3719160"/>
                  <a:ext cx="2090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3285360" y="3719160"/>
                  <a:ext cx="223560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5521320" y="3719160"/>
                <a:ext cx="1905120" cy="505080"/>
                <a:chOff x="5521320" y="3719160"/>
                <a:chExt cx="1905120" cy="50508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5593680" y="3719160"/>
                  <a:ext cx="17596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iz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521320" y="3719160"/>
                  <a:ext cx="19051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285360" y="4224600"/>
                <a:ext cx="2235600" cy="504720"/>
                <a:chOff x="3285360" y="4224600"/>
                <a:chExt cx="2235600" cy="50472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3357720" y="422460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3285360" y="422460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5521320" y="4224600"/>
                <a:ext cx="1905120" cy="504720"/>
                <a:chOff x="5521320" y="4224600"/>
                <a:chExt cx="1905120" cy="50472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5593680" y="422460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521320" y="422460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1376280" y="4729320"/>
                <a:ext cx="1908720" cy="1009800"/>
                <a:chOff x="1376280" y="4729320"/>
                <a:chExt cx="1908720" cy="100980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1449000" y="472932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376280" y="472932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3285360" y="4729320"/>
                <a:ext cx="2235600" cy="504720"/>
                <a:chOff x="3285360" y="4729320"/>
                <a:chExt cx="2235600" cy="50472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3357720" y="472932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285360" y="472932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5521320" y="4729320"/>
                <a:ext cx="1905120" cy="504720"/>
                <a:chOff x="5521320" y="4729320"/>
                <a:chExt cx="1905120" cy="5047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593680" y="472932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Weigh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521320" y="472932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285360" y="5234400"/>
                <a:ext cx="2235600" cy="504720"/>
                <a:chOff x="3285360" y="5234400"/>
                <a:chExt cx="2235600" cy="5047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357720" y="523440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285360" y="523440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5521320" y="5234400"/>
                <a:ext cx="1905120" cy="504720"/>
                <a:chOff x="5521320" y="5234400"/>
                <a:chExt cx="1905120" cy="50472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5593680" y="523440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521320" y="523440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1376280" y="5739120"/>
                <a:ext cx="1908720" cy="505080"/>
                <a:chOff x="1376280" y="5739120"/>
                <a:chExt cx="1908720" cy="50508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1449000" y="5739120"/>
                  <a:ext cx="17629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76280" y="5739120"/>
                  <a:ext cx="19087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3285360" y="5739120"/>
                <a:ext cx="2235600" cy="505080"/>
                <a:chOff x="3285360" y="5739120"/>
                <a:chExt cx="2235600" cy="5050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3357720" y="5739120"/>
                  <a:ext cx="2090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285360" y="5739120"/>
                  <a:ext cx="223560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5521320" y="5739120"/>
                <a:ext cx="1905120" cy="505080"/>
                <a:chOff x="5521320" y="5739120"/>
                <a:chExt cx="1905120" cy="50508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5593680" y="5739120"/>
                  <a:ext cx="17596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521320" y="5739120"/>
                  <a:ext cx="19051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5" name=""/>
            <p:cNvSpPr/>
            <p:nvPr/>
          </p:nvSpPr>
          <p:spPr>
            <a:xfrm>
              <a:off x="1371600" y="685800"/>
              <a:ext cx="6060600" cy="556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32576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897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276880" cy="397692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13716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CtrlGr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7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Decision Cub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控件概述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4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6.7.2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Decision Cub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各控件介绍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7.3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使用范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2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概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包括六种控件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5" name=""/>
          <p:cNvSpPr/>
          <p:nvPr/>
        </p:nvSpPr>
        <p:spPr>
          <a:xfrm>
            <a:off x="2238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0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4267080"/>
            <a:ext cx="8153280" cy="952560"/>
          </a:xfrm>
          <a:prstGeom prst="rect">
            <a:avLst/>
          </a:prstGeom>
          <a:ln w="0">
            <a:noFill/>
          </a:ln>
        </p:spPr>
      </p:pic>
      <p:sp>
        <p:nvSpPr>
          <p:cNvPr id="1907" name=""/>
          <p:cNvSpPr/>
          <p:nvPr/>
        </p:nvSpPr>
        <p:spPr>
          <a:xfrm>
            <a:off x="175248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63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Decision Cube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控件选项卡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.2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各控件介绍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Query Edi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编辑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。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上单击鼠标右键，从弹出的快捷菜单中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Query Editor…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选项，就进入了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Query Edi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/>
          <p:nvPr/>
        </p:nvSpPr>
        <p:spPr>
          <a:xfrm>
            <a:off x="32529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72000" cy="369720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4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ecision Query Edi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属性如下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imensionMa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（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axDimensio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axSummarie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31431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17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400280" cy="3197160"/>
          </a:xfrm>
          <a:prstGeom prst="rect">
            <a:avLst/>
          </a:prstGeom>
          <a:ln w="0">
            <a:noFill/>
          </a:ln>
        </p:spPr>
      </p:pic>
      <p:sp>
        <p:nvSpPr>
          <p:cNvPr id="1918" name=""/>
          <p:cNvSpPr/>
          <p:nvPr/>
        </p:nvSpPr>
        <p:spPr>
          <a:xfrm>
            <a:off x="205740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5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ecision Cube Edi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连接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ODBC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配置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安装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，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indow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控制面板，双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 Data Sourc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32bi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”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 Data Source Administr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d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就会打开创建新数据源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都用于建立数据集控件和数据控制控件的数据链路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控制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显示状态。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上有一些按钮用来控制显示维数和统计域。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"/>
          <p:cNvSpPr/>
          <p:nvPr/>
        </p:nvSpPr>
        <p:spPr>
          <a:xfrm>
            <a:off x="29671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21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01000" cy="1219320"/>
          </a:xfrm>
          <a:prstGeom prst="rect">
            <a:avLst/>
          </a:prstGeom>
          <a:ln w="0">
            <a:noFill/>
          </a:ln>
        </p:spPr>
      </p:pic>
      <p:sp>
        <p:nvSpPr>
          <p:cNvPr id="1922" name=""/>
          <p:cNvSpPr/>
          <p:nvPr/>
        </p:nvSpPr>
        <p:spPr>
          <a:xfrm>
            <a:off x="1600200" y="5105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6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ecisionPrivo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将以表格的形式显示统计的结果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以图形的方式显示多维表中的统计结果，其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用于设置数据的来源。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33386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143000"/>
            <a:ext cx="4662360" cy="3726000"/>
          </a:xfrm>
          <a:prstGeom prst="rect">
            <a:avLst/>
          </a:prstGeom>
          <a:ln w="0">
            <a:noFill/>
          </a:ln>
        </p:spPr>
      </p:pic>
      <p:sp>
        <p:nvSpPr>
          <p:cNvPr id="1926" name=""/>
          <p:cNvSpPr/>
          <p:nvPr/>
        </p:nvSpPr>
        <p:spPr>
          <a:xfrm>
            <a:off x="1295280" y="5486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Editing DecisionGraph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.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的使用范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该实例将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xample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库中的职员表创建一个数据库应用程序，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统计各个部门中职员的工资总和，并分别用表格和图表的形式显示出来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32432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138640" cy="322236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2133720" y="5181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9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abbedNoteBook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age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属性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28954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343400" cy="2960640"/>
          </a:xfrm>
          <a:prstGeom prst="rect">
            <a:avLst/>
          </a:prstGeom>
          <a:ln w="0">
            <a:noFill/>
          </a:ln>
        </p:spPr>
      </p:pic>
      <p:sp>
        <p:nvSpPr>
          <p:cNvPr id="1935" name=""/>
          <p:cNvSpPr/>
          <p:nvPr/>
        </p:nvSpPr>
        <p:spPr>
          <a:xfrm>
            <a:off x="19810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表格窗体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304308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287360"/>
            <a:ext cx="4648320" cy="321480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>
            <a:off x="1828800" y="5181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表格窗体的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31050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62320" y="1295280"/>
            <a:ext cx="4667040" cy="319752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1676520" y="5029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单击表格窗体中“部门名称”左边减号按钮显示的表格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/>
          <p:nvPr/>
        </p:nvSpPr>
        <p:spPr>
          <a:xfrm>
            <a:off x="31478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523880"/>
            <a:ext cx="4624560" cy="3186360"/>
          </a:xfrm>
          <a:prstGeom prst="rect">
            <a:avLst/>
          </a:prstGeom>
          <a:ln w="0">
            <a:noFill/>
          </a:ln>
        </p:spPr>
      </p:pic>
      <p:sp>
        <p:nvSpPr>
          <p:cNvPr id="1944" name=""/>
          <p:cNvSpPr/>
          <p:nvPr/>
        </p:nvSpPr>
        <p:spPr>
          <a:xfrm>
            <a:off x="190512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表窗体的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这里从驱动程序列表中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icrosoft Access Driver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*.m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”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并单击“完成”按钮，则会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 Microsoft Access Setu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nfiguration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页框，展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river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节点，然后用鼠标右键单击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从弹出的菜单中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这时将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 ODBC Drive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报表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2437920" y="2437920"/>
            <a:ext cx="5257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8.1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报表控件简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8.2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制作报表实例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8.3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快速创建报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8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报表控件简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Repo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是一组用于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库应用程序制作报表的控件，在它的控件板中，一共有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个控件，位于控件栏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Repo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选项卡中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7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1" name=""/>
          <p:cNvSpPr/>
          <p:nvPr/>
        </p:nvSpPr>
        <p:spPr>
          <a:xfrm>
            <a:off x="18622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52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8229600" cy="685800"/>
          </a:xfrm>
          <a:prstGeom prst="rect">
            <a:avLst/>
          </a:prstGeom>
          <a:ln w="0">
            <a:noFill/>
          </a:ln>
        </p:spPr>
      </p:pic>
      <p:sp>
        <p:nvSpPr>
          <p:cNvPr id="1953" name=""/>
          <p:cNvSpPr/>
          <p:nvPr/>
        </p:nvSpPr>
        <p:spPr>
          <a:xfrm>
            <a:off x="1600200" y="54864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78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QRepor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控件板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uickRe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属性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有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955" name=""/>
          <p:cNvGraphicFramePr/>
          <p:nvPr/>
        </p:nvGraphicFramePr>
        <p:xfrm>
          <a:off x="771480" y="1930320"/>
          <a:ext cx="7601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930320"/>
                    <a:ext cx="7601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7" name=""/>
          <p:cNvGraphicFramePr/>
          <p:nvPr/>
        </p:nvGraphicFramePr>
        <p:xfrm>
          <a:off x="1104840" y="4195800"/>
          <a:ext cx="7086600" cy="9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4195800"/>
                    <a:ext cx="70866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/>
          </p:nvPr>
        </p:nvSpPr>
        <p:spPr>
          <a:xfrm>
            <a:off x="2057040" y="1371240"/>
            <a:ext cx="6095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QRBan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uickRe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属性有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andTyp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orceNewP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Pri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/>
          </p:nvPr>
        </p:nvSpPr>
        <p:spPr>
          <a:xfrm>
            <a:off x="1752120" y="14475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QRSubDetai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ubDetai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属性有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e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aste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and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其他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QRepo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ChildBan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一般用于在其中显示备注信息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Labe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用于在报表中显示静态的文本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用于显示数据集控件中某一个字段中的数据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Exp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它可以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Exp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为报表创建有关数据表的复杂计算（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7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32050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63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567320" cy="351612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>
            <a:off x="1981080" y="5410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Expressio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属性向导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ysDat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ysDat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在报表中显示一些有关系统的信息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Memo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用于在报表内显示一些备注信息，也可以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Line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添加备注信息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hap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hap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在报表中显示一些简单的图形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在报表中显示数据表中的图像字段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制作报表实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96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838760" cy="3357720"/>
          </a:xfrm>
          <a:prstGeom prst="rect">
            <a:avLst/>
          </a:prstGeom>
          <a:ln w="0">
            <a:noFill/>
          </a:ln>
        </p:spPr>
      </p:pic>
      <p:sp>
        <p:nvSpPr>
          <p:cNvPr id="1969" name=""/>
          <p:cNvSpPr/>
          <p:nvPr/>
        </p:nvSpPr>
        <p:spPr>
          <a:xfrm>
            <a:off x="198108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报表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"/>
          <p:cNvGrpSpPr/>
          <p:nvPr/>
        </p:nvGrpSpPr>
        <p:grpSpPr>
          <a:xfrm>
            <a:off x="1295280" y="838080"/>
            <a:ext cx="5668920" cy="4759200"/>
            <a:chOff x="1295280" y="838080"/>
            <a:chExt cx="5668920" cy="4759200"/>
          </a:xfrm>
        </p:grpSpPr>
        <p:grpSp>
          <p:nvGrpSpPr>
            <p:cNvPr id="1971" name=""/>
            <p:cNvGrpSpPr/>
            <p:nvPr/>
          </p:nvGrpSpPr>
          <p:grpSpPr>
            <a:xfrm>
              <a:off x="1299960" y="842760"/>
              <a:ext cx="5659560" cy="4749840"/>
              <a:chOff x="1299960" y="842760"/>
              <a:chExt cx="5659560" cy="4749840"/>
            </a:xfrm>
          </p:grpSpPr>
          <p:grpSp>
            <p:nvGrpSpPr>
              <p:cNvPr id="1972" name=""/>
              <p:cNvGrpSpPr/>
              <p:nvPr/>
            </p:nvGrpSpPr>
            <p:grpSpPr>
              <a:xfrm>
                <a:off x="1299960" y="842760"/>
                <a:ext cx="1736640" cy="593640"/>
                <a:chOff x="1299960" y="842760"/>
                <a:chExt cx="1736640" cy="59364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1368360" y="842760"/>
                  <a:ext cx="1600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299960" y="842760"/>
                  <a:ext cx="17366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5" name=""/>
              <p:cNvGrpSpPr/>
              <p:nvPr/>
            </p:nvGrpSpPr>
            <p:grpSpPr>
              <a:xfrm>
                <a:off x="3036600" y="842760"/>
                <a:ext cx="1960560" cy="593640"/>
                <a:chOff x="3036600" y="842760"/>
                <a:chExt cx="1960560" cy="59364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3105000" y="84276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036600" y="84276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4997160" y="842760"/>
                <a:ext cx="1962360" cy="593640"/>
                <a:chOff x="4997160" y="842760"/>
                <a:chExt cx="1962360" cy="59364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5065560" y="84276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997160" y="84276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"/>
              <p:cNvGrpSpPr/>
              <p:nvPr/>
            </p:nvGrpSpPr>
            <p:grpSpPr>
              <a:xfrm>
                <a:off x="1299960" y="1436400"/>
                <a:ext cx="1736640" cy="1781280"/>
                <a:chOff x="1299960" y="1436400"/>
                <a:chExt cx="1736640" cy="178128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1368360" y="1436400"/>
                  <a:ext cx="1600200" cy="17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299960" y="1436400"/>
                  <a:ext cx="1736640" cy="17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"/>
              <p:cNvGrpSpPr/>
              <p:nvPr/>
            </p:nvGrpSpPr>
            <p:grpSpPr>
              <a:xfrm>
                <a:off x="3036600" y="1436400"/>
                <a:ext cx="1960560" cy="593640"/>
                <a:chOff x="3036600" y="1436400"/>
                <a:chExt cx="1960560" cy="59364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3105000" y="143640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036600" y="143640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7" name=""/>
              <p:cNvGrpSpPr/>
              <p:nvPr/>
            </p:nvGrpSpPr>
            <p:grpSpPr>
              <a:xfrm>
                <a:off x="4997160" y="1436400"/>
                <a:ext cx="1962360" cy="593640"/>
                <a:chOff x="4997160" y="1436400"/>
                <a:chExt cx="1962360" cy="593640"/>
              </a:xfrm>
            </p:grpSpPr>
            <p:sp>
              <p:nvSpPr>
                <p:cNvPr id="1988" name=""/>
                <p:cNvSpPr/>
                <p:nvPr/>
              </p:nvSpPr>
              <p:spPr>
                <a:xfrm>
                  <a:off x="5065560" y="143640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997160" y="143640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3036600" y="2030040"/>
                <a:ext cx="1960560" cy="594000"/>
                <a:chOff x="3036600" y="2030040"/>
                <a:chExt cx="1960560" cy="5940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105000" y="2030040"/>
                  <a:ext cx="1824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036600" y="2030040"/>
                  <a:ext cx="1960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4997160" y="2030040"/>
                <a:ext cx="1962360" cy="594000"/>
                <a:chOff x="4997160" y="2030040"/>
                <a:chExt cx="1962360" cy="59400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5065560" y="2030040"/>
                  <a:ext cx="18255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997160" y="2030040"/>
                  <a:ext cx="19623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036600" y="2624040"/>
                <a:ext cx="1960560" cy="593640"/>
                <a:chOff x="3036600" y="2624040"/>
                <a:chExt cx="1960560" cy="59364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105000" y="262404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036600" y="262404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4997160" y="2624040"/>
                <a:ext cx="1962360" cy="593640"/>
                <a:chOff x="4997160" y="2624040"/>
                <a:chExt cx="1962360" cy="59364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5065560" y="262404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997160" y="262404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2" name=""/>
              <p:cNvGrpSpPr/>
              <p:nvPr/>
            </p:nvGrpSpPr>
            <p:grpSpPr>
              <a:xfrm>
                <a:off x="1299960" y="3217680"/>
                <a:ext cx="1736640" cy="2374920"/>
                <a:chOff x="1299960" y="3217680"/>
                <a:chExt cx="1736640" cy="2374920"/>
              </a:xfrm>
            </p:grpSpPr>
            <p:sp>
              <p:nvSpPr>
                <p:cNvPr id="2003" name=""/>
                <p:cNvSpPr/>
                <p:nvPr/>
              </p:nvSpPr>
              <p:spPr>
                <a:xfrm>
                  <a:off x="1368360" y="3217680"/>
                  <a:ext cx="1600200" cy="23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299960" y="3217680"/>
                  <a:ext cx="1736640" cy="23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5" name=""/>
              <p:cNvGrpSpPr/>
              <p:nvPr/>
            </p:nvGrpSpPr>
            <p:grpSpPr>
              <a:xfrm>
                <a:off x="3036600" y="3217680"/>
                <a:ext cx="1960560" cy="593640"/>
                <a:chOff x="3036600" y="3217680"/>
                <a:chExt cx="1960560" cy="593640"/>
              </a:xfrm>
            </p:grpSpPr>
            <p:sp>
              <p:nvSpPr>
                <p:cNvPr id="2006" name=""/>
                <p:cNvSpPr/>
                <p:nvPr/>
              </p:nvSpPr>
              <p:spPr>
                <a:xfrm>
                  <a:off x="3105000" y="321768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036600" y="321768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8" name=""/>
              <p:cNvGrpSpPr/>
              <p:nvPr/>
            </p:nvGrpSpPr>
            <p:grpSpPr>
              <a:xfrm>
                <a:off x="4997160" y="3217680"/>
                <a:ext cx="1962360" cy="593640"/>
                <a:chOff x="4997160" y="3217680"/>
                <a:chExt cx="1962360" cy="59364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5065560" y="321768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997160" y="321768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1" name=""/>
              <p:cNvGrpSpPr/>
              <p:nvPr/>
            </p:nvGrpSpPr>
            <p:grpSpPr>
              <a:xfrm>
                <a:off x="3036600" y="3811320"/>
                <a:ext cx="1960560" cy="593640"/>
                <a:chOff x="3036600" y="3811320"/>
                <a:chExt cx="1960560" cy="593640"/>
              </a:xfrm>
            </p:grpSpPr>
            <p:sp>
              <p:nvSpPr>
                <p:cNvPr id="2012" name=""/>
                <p:cNvSpPr/>
                <p:nvPr/>
              </p:nvSpPr>
              <p:spPr>
                <a:xfrm>
                  <a:off x="3105000" y="381132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036600" y="381132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4" name=""/>
              <p:cNvGrpSpPr/>
              <p:nvPr/>
            </p:nvGrpSpPr>
            <p:grpSpPr>
              <a:xfrm>
                <a:off x="4997160" y="3811320"/>
                <a:ext cx="1962360" cy="593640"/>
                <a:chOff x="4997160" y="3811320"/>
                <a:chExt cx="1962360" cy="59364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5065560" y="381132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s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997160" y="381132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3036600" y="4404960"/>
                <a:ext cx="1960560" cy="594000"/>
                <a:chOff x="3036600" y="4404960"/>
                <a:chExt cx="1960560" cy="59400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3105000" y="4404960"/>
                  <a:ext cx="1824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036600" y="4404960"/>
                  <a:ext cx="1960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0" name=""/>
              <p:cNvGrpSpPr/>
              <p:nvPr/>
            </p:nvGrpSpPr>
            <p:grpSpPr>
              <a:xfrm>
                <a:off x="4997160" y="4404960"/>
                <a:ext cx="1962360" cy="594000"/>
                <a:chOff x="4997160" y="4404960"/>
                <a:chExt cx="1962360" cy="5940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5065560" y="4404960"/>
                  <a:ext cx="18255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997160" y="4404960"/>
                  <a:ext cx="19623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3" name=""/>
              <p:cNvGrpSpPr/>
              <p:nvPr/>
            </p:nvGrpSpPr>
            <p:grpSpPr>
              <a:xfrm>
                <a:off x="3036600" y="4998960"/>
                <a:ext cx="1960560" cy="593640"/>
                <a:chOff x="3036600" y="4998960"/>
                <a:chExt cx="1960560" cy="59364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3105000" y="499896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dex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36600" y="499896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4997160" y="4998960"/>
                <a:ext cx="1962360" cy="593640"/>
                <a:chOff x="4997160" y="4998960"/>
                <a:chExt cx="1962360" cy="593640"/>
              </a:xfrm>
            </p:grpSpPr>
            <p:sp>
              <p:nvSpPr>
                <p:cNvPr id="2027" name=""/>
                <p:cNvSpPr/>
                <p:nvPr/>
              </p:nvSpPr>
              <p:spPr>
                <a:xfrm>
                  <a:off x="5065560" y="499896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997160" y="499896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9" name=""/>
            <p:cNvSpPr/>
            <p:nvPr/>
          </p:nvSpPr>
          <p:spPr>
            <a:xfrm>
              <a:off x="1295280" y="838080"/>
              <a:ext cx="5668920" cy="4759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7166880" y="12193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7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接着，展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页框，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bjec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上的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命令，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 Database Alia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其中，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-acces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作为数据库驱动程序，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。输入完整的别名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ccesst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最后，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bjec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上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pp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命令，将新建的别名保存到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配置文件中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"/>
          <p:cNvGrpSpPr/>
          <p:nvPr/>
        </p:nvGrpSpPr>
        <p:grpSpPr>
          <a:xfrm>
            <a:off x="990720" y="838080"/>
            <a:ext cx="7543080" cy="5257440"/>
            <a:chOff x="990720" y="838080"/>
            <a:chExt cx="7543080" cy="5257440"/>
          </a:xfrm>
        </p:grpSpPr>
        <p:grpSp>
          <p:nvGrpSpPr>
            <p:cNvPr id="2032" name=""/>
            <p:cNvGrpSpPr/>
            <p:nvPr/>
          </p:nvGrpSpPr>
          <p:grpSpPr>
            <a:xfrm>
              <a:off x="990720" y="1375200"/>
              <a:ext cx="7543080" cy="4720320"/>
              <a:chOff x="990720" y="1375200"/>
              <a:chExt cx="7543080" cy="4720320"/>
            </a:xfrm>
          </p:grpSpPr>
          <p:grpSp>
            <p:nvGrpSpPr>
              <p:cNvPr id="2033" name=""/>
              <p:cNvGrpSpPr/>
              <p:nvPr/>
            </p:nvGrpSpPr>
            <p:grpSpPr>
              <a:xfrm>
                <a:off x="996840" y="1379160"/>
                <a:ext cx="7530120" cy="4711680"/>
                <a:chOff x="996840" y="1379160"/>
                <a:chExt cx="7530120" cy="4711680"/>
              </a:xfrm>
            </p:grpSpPr>
            <p:grpSp>
              <p:nvGrpSpPr>
                <p:cNvPr id="2034" name=""/>
                <p:cNvGrpSpPr/>
                <p:nvPr/>
              </p:nvGrpSpPr>
              <p:grpSpPr>
                <a:xfrm>
                  <a:off x="996840" y="1379160"/>
                  <a:ext cx="2310120" cy="2617560"/>
                  <a:chOff x="996840" y="1379160"/>
                  <a:chExt cx="2310120" cy="2617560"/>
                </a:xfrm>
              </p:grpSpPr>
              <p:sp>
                <p:nvSpPr>
                  <p:cNvPr id="2035" name=""/>
                  <p:cNvSpPr/>
                  <p:nvPr/>
                </p:nvSpPr>
                <p:spPr>
                  <a:xfrm>
                    <a:off x="1087560" y="1379160"/>
                    <a:ext cx="2128680" cy="261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uickRep1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996840" y="1379160"/>
                    <a:ext cx="2310120" cy="261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7" name=""/>
                <p:cNvGrpSpPr/>
                <p:nvPr/>
              </p:nvGrpSpPr>
              <p:grpSpPr>
                <a:xfrm>
                  <a:off x="3307320" y="1379160"/>
                  <a:ext cx="2608200" cy="523440"/>
                  <a:chOff x="3307320" y="1379160"/>
                  <a:chExt cx="2608200" cy="52344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3398040" y="137916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DataSet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3307320" y="137916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5916240" y="1379160"/>
                  <a:ext cx="2610720" cy="523440"/>
                  <a:chOff x="5916240" y="1379160"/>
                  <a:chExt cx="2610720" cy="52344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6006960" y="137916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able1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5916240" y="137916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3307320" y="1902600"/>
                  <a:ext cx="2608200" cy="523440"/>
                  <a:chOff x="3307320" y="1902600"/>
                  <a:chExt cx="2608200" cy="523440"/>
                </a:xfrm>
              </p:grpSpPr>
              <p:sp>
                <p:nvSpPr>
                  <p:cNvPr id="2044" name=""/>
                  <p:cNvSpPr/>
                  <p:nvPr/>
                </p:nvSpPr>
                <p:spPr>
                  <a:xfrm>
                    <a:off x="3398040" y="190260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ColumnHeader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3307320" y="190260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5916240" y="1902600"/>
                  <a:ext cx="2610720" cy="523440"/>
                  <a:chOff x="5916240" y="1902600"/>
                  <a:chExt cx="2610720" cy="52344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>
                    <a:off x="6006960" y="190260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5916240" y="190260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9" name=""/>
                <p:cNvGrpSpPr/>
                <p:nvPr/>
              </p:nvGrpSpPr>
              <p:grpSpPr>
                <a:xfrm>
                  <a:off x="3307320" y="2426040"/>
                  <a:ext cx="2608200" cy="523800"/>
                  <a:chOff x="3307320" y="2426040"/>
                  <a:chExt cx="2608200" cy="52380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3398040" y="2426040"/>
                    <a:ext cx="242676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Detail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3307320" y="2426040"/>
                    <a:ext cx="260820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2" name=""/>
                <p:cNvGrpSpPr/>
                <p:nvPr/>
              </p:nvGrpSpPr>
              <p:grpSpPr>
                <a:xfrm>
                  <a:off x="5916240" y="2426040"/>
                  <a:ext cx="2610720" cy="523800"/>
                  <a:chOff x="5916240" y="2426040"/>
                  <a:chExt cx="2610720" cy="523800"/>
                </a:xfrm>
              </p:grpSpPr>
              <p:sp>
                <p:nvSpPr>
                  <p:cNvPr id="2053" name=""/>
                  <p:cNvSpPr/>
                  <p:nvPr/>
                </p:nvSpPr>
                <p:spPr>
                  <a:xfrm>
                    <a:off x="6006960" y="2426040"/>
                    <a:ext cx="242892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5916240" y="2426040"/>
                    <a:ext cx="2610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5" name=""/>
                <p:cNvGrpSpPr/>
                <p:nvPr/>
              </p:nvGrpSpPr>
              <p:grpSpPr>
                <a:xfrm>
                  <a:off x="3307320" y="2949840"/>
                  <a:ext cx="2608200" cy="523440"/>
                  <a:chOff x="3307320" y="2949840"/>
                  <a:chExt cx="2608200" cy="52344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>
                    <a:off x="3398040" y="294984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PageFooter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3307320" y="294984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8" name=""/>
                <p:cNvGrpSpPr/>
                <p:nvPr/>
              </p:nvGrpSpPr>
              <p:grpSpPr>
                <a:xfrm>
                  <a:off x="5916240" y="2949840"/>
                  <a:ext cx="2610720" cy="523440"/>
                  <a:chOff x="5916240" y="2949840"/>
                  <a:chExt cx="2610720" cy="523440"/>
                </a:xfrm>
              </p:grpSpPr>
              <p:sp>
                <p:nvSpPr>
                  <p:cNvPr id="2059" name=""/>
                  <p:cNvSpPr/>
                  <p:nvPr/>
                </p:nvSpPr>
                <p:spPr>
                  <a:xfrm>
                    <a:off x="6006960" y="294984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5916240" y="294984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1" name=""/>
                <p:cNvGrpSpPr/>
                <p:nvPr/>
              </p:nvGrpSpPr>
              <p:grpSpPr>
                <a:xfrm>
                  <a:off x="3307320" y="3473280"/>
                  <a:ext cx="2608200" cy="523440"/>
                  <a:chOff x="3307320" y="3473280"/>
                  <a:chExt cx="2608200" cy="52344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3398040" y="347328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Titl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3307320" y="347328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4" name=""/>
                <p:cNvGrpSpPr/>
                <p:nvPr/>
              </p:nvGrpSpPr>
              <p:grpSpPr>
                <a:xfrm>
                  <a:off x="5916240" y="3473280"/>
                  <a:ext cx="2610720" cy="523440"/>
                  <a:chOff x="5916240" y="3473280"/>
                  <a:chExt cx="2610720" cy="52344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>
                    <a:off x="6006960" y="347328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5916240" y="347328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996840" y="3996720"/>
                  <a:ext cx="2310120" cy="523440"/>
                  <a:chOff x="996840" y="3996720"/>
                  <a:chExt cx="2310120" cy="52344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1087560" y="399672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1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996840" y="399672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3307320" y="3996720"/>
                  <a:ext cx="2608200" cy="523440"/>
                  <a:chOff x="3307320" y="3996720"/>
                  <a:chExt cx="2608200" cy="52344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>
                    <a:off x="3398040" y="399672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3307320" y="399672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3" name=""/>
                <p:cNvGrpSpPr/>
                <p:nvPr/>
              </p:nvGrpSpPr>
              <p:grpSpPr>
                <a:xfrm>
                  <a:off x="5916240" y="3996720"/>
                  <a:ext cx="2610720" cy="523440"/>
                  <a:chOff x="5916240" y="3996720"/>
                  <a:chExt cx="2610720" cy="523440"/>
                </a:xfrm>
              </p:grpSpPr>
              <p:sp>
                <p:nvSpPr>
                  <p:cNvPr id="2074" name=""/>
                  <p:cNvSpPr/>
                  <p:nvPr/>
                </p:nvSpPr>
                <p:spPr>
                  <a:xfrm>
                    <a:off x="6006960" y="399672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主</a:t>
                    </a: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/</a:t>
                    </a: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从报表的例子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5916240" y="399672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6" name=""/>
                <p:cNvGrpSpPr/>
                <p:nvPr/>
              </p:nvGrpSpPr>
              <p:grpSpPr>
                <a:xfrm>
                  <a:off x="996840" y="4520160"/>
                  <a:ext cx="2310120" cy="523800"/>
                  <a:chOff x="996840" y="4520160"/>
                  <a:chExt cx="2310120" cy="523800"/>
                </a:xfrm>
              </p:grpSpPr>
              <p:sp>
                <p:nvSpPr>
                  <p:cNvPr id="2077" name=""/>
                  <p:cNvSpPr/>
                  <p:nvPr/>
                </p:nvSpPr>
                <p:spPr>
                  <a:xfrm>
                    <a:off x="1087560" y="4520160"/>
                    <a:ext cx="212868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2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996840" y="4520160"/>
                    <a:ext cx="23101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9" name=""/>
                <p:cNvGrpSpPr/>
                <p:nvPr/>
              </p:nvGrpSpPr>
              <p:grpSpPr>
                <a:xfrm>
                  <a:off x="3307320" y="4520160"/>
                  <a:ext cx="2608200" cy="523800"/>
                  <a:chOff x="3307320" y="4520160"/>
                  <a:chExt cx="2608200" cy="52380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3398040" y="4520160"/>
                    <a:ext cx="242676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3307320" y="4520160"/>
                    <a:ext cx="260820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5916240" y="4520160"/>
                  <a:ext cx="2610720" cy="523800"/>
                  <a:chOff x="5916240" y="4520160"/>
                  <a:chExt cx="2610720" cy="523800"/>
                </a:xfrm>
              </p:grpSpPr>
              <p:sp>
                <p:nvSpPr>
                  <p:cNvPr id="2083" name=""/>
                  <p:cNvSpPr/>
                  <p:nvPr/>
                </p:nvSpPr>
                <p:spPr>
                  <a:xfrm>
                    <a:off x="6006960" y="4520160"/>
                    <a:ext cx="242892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ustNo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5916240" y="4520160"/>
                    <a:ext cx="2610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5" name=""/>
                <p:cNvGrpSpPr/>
                <p:nvPr/>
              </p:nvGrpSpPr>
              <p:grpSpPr>
                <a:xfrm>
                  <a:off x="996840" y="5043960"/>
                  <a:ext cx="2310120" cy="523440"/>
                  <a:chOff x="996840" y="5043960"/>
                  <a:chExt cx="2310120" cy="523440"/>
                </a:xfrm>
              </p:grpSpPr>
              <p:sp>
                <p:nvSpPr>
                  <p:cNvPr id="2086" name=""/>
                  <p:cNvSpPr/>
                  <p:nvPr/>
                </p:nvSpPr>
                <p:spPr>
                  <a:xfrm>
                    <a:off x="1087560" y="504396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3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996840" y="504396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8" name=""/>
                <p:cNvGrpSpPr/>
                <p:nvPr/>
              </p:nvGrpSpPr>
              <p:grpSpPr>
                <a:xfrm>
                  <a:off x="3307320" y="5043960"/>
                  <a:ext cx="2608200" cy="523440"/>
                  <a:chOff x="3307320" y="5043960"/>
                  <a:chExt cx="2608200" cy="523440"/>
                </a:xfrm>
              </p:grpSpPr>
              <p:sp>
                <p:nvSpPr>
                  <p:cNvPr id="2089" name=""/>
                  <p:cNvSpPr/>
                  <p:nvPr/>
                </p:nvSpPr>
                <p:spPr>
                  <a:xfrm>
                    <a:off x="3398040" y="504396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3307320" y="504396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"/>
                <p:cNvGrpSpPr/>
                <p:nvPr/>
              </p:nvGrpSpPr>
              <p:grpSpPr>
                <a:xfrm>
                  <a:off x="5916240" y="5043960"/>
                  <a:ext cx="2610720" cy="523440"/>
                  <a:chOff x="5916240" y="5043960"/>
                  <a:chExt cx="2610720" cy="52344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6006960" y="504396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ity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5916240" y="504396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"/>
                <p:cNvGrpSpPr/>
                <p:nvPr/>
              </p:nvGrpSpPr>
              <p:grpSpPr>
                <a:xfrm>
                  <a:off x="996840" y="5567400"/>
                  <a:ext cx="2310120" cy="523440"/>
                  <a:chOff x="996840" y="5567400"/>
                  <a:chExt cx="2310120" cy="52344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>
                    <a:off x="1087560" y="556740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4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996840" y="556740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7" name=""/>
                <p:cNvGrpSpPr/>
                <p:nvPr/>
              </p:nvGrpSpPr>
              <p:grpSpPr>
                <a:xfrm>
                  <a:off x="3307320" y="5567400"/>
                  <a:ext cx="2608200" cy="523440"/>
                  <a:chOff x="3307320" y="5567400"/>
                  <a:chExt cx="2608200" cy="523440"/>
                </a:xfrm>
              </p:grpSpPr>
              <p:sp>
                <p:nvSpPr>
                  <p:cNvPr id="2098" name=""/>
                  <p:cNvSpPr/>
                  <p:nvPr/>
                </p:nvSpPr>
                <p:spPr>
                  <a:xfrm>
                    <a:off x="3398040" y="556740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3307320" y="556740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0" name=""/>
                <p:cNvGrpSpPr/>
                <p:nvPr/>
              </p:nvGrpSpPr>
              <p:grpSpPr>
                <a:xfrm>
                  <a:off x="5916240" y="5567400"/>
                  <a:ext cx="2610720" cy="523440"/>
                  <a:chOff x="5916240" y="5567400"/>
                  <a:chExt cx="2610720" cy="523440"/>
                </a:xfrm>
              </p:grpSpPr>
              <p:sp>
                <p:nvSpPr>
                  <p:cNvPr id="2101" name=""/>
                  <p:cNvSpPr/>
                  <p:nvPr/>
                </p:nvSpPr>
                <p:spPr>
                  <a:xfrm>
                    <a:off x="6006960" y="556740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Phon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5916240" y="556740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03" name=""/>
              <p:cNvSpPr/>
              <p:nvPr/>
            </p:nvSpPr>
            <p:spPr>
              <a:xfrm>
                <a:off x="990720" y="1375200"/>
                <a:ext cx="7543080" cy="47203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990720" y="838080"/>
              <a:ext cx="7543080" cy="531720"/>
              <a:chOff x="990720" y="838080"/>
              <a:chExt cx="7543080" cy="531720"/>
            </a:xfrm>
          </p:grpSpPr>
          <p:grpSp>
            <p:nvGrpSpPr>
              <p:cNvPr id="2105" name=""/>
              <p:cNvGrpSpPr/>
              <p:nvPr/>
            </p:nvGrpSpPr>
            <p:grpSpPr>
              <a:xfrm>
                <a:off x="996840" y="842040"/>
                <a:ext cx="7530120" cy="523440"/>
                <a:chOff x="996840" y="842040"/>
                <a:chExt cx="7530120" cy="523440"/>
              </a:xfrm>
            </p:grpSpPr>
            <p:grpSp>
              <p:nvGrpSpPr>
                <p:cNvPr id="2106" name=""/>
                <p:cNvGrpSpPr/>
                <p:nvPr/>
              </p:nvGrpSpPr>
              <p:grpSpPr>
                <a:xfrm>
                  <a:off x="996840" y="842040"/>
                  <a:ext cx="2310120" cy="523440"/>
                  <a:chOff x="996840" y="842040"/>
                  <a:chExt cx="2310120" cy="523440"/>
                </a:xfrm>
              </p:grpSpPr>
              <p:sp>
                <p:nvSpPr>
                  <p:cNvPr id="2107" name=""/>
                  <p:cNvSpPr/>
                  <p:nvPr/>
                </p:nvSpPr>
                <p:spPr>
                  <a:xfrm>
                    <a:off x="1087560" y="84204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Arial"/>
                        <a:ea typeface="黑体"/>
                      </a:rPr>
                      <a:t>控件名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996840" y="84204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9" name=""/>
                <p:cNvGrpSpPr/>
                <p:nvPr/>
              </p:nvGrpSpPr>
              <p:grpSpPr>
                <a:xfrm>
                  <a:off x="3307320" y="842040"/>
                  <a:ext cx="2608200" cy="523440"/>
                  <a:chOff x="3307320" y="842040"/>
                  <a:chExt cx="2608200" cy="52344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3398040" y="84204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Arial"/>
                        <a:ea typeface="黑体"/>
                      </a:rPr>
                      <a:t>属性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3307320" y="84204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"/>
                <p:cNvGrpSpPr/>
                <p:nvPr/>
              </p:nvGrpSpPr>
              <p:grpSpPr>
                <a:xfrm>
                  <a:off x="5916240" y="842040"/>
                  <a:ext cx="2610720" cy="523440"/>
                  <a:chOff x="5916240" y="842040"/>
                  <a:chExt cx="2610720" cy="52344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6006960" y="84204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Arial"/>
                        <a:ea typeface="黑体"/>
                      </a:rPr>
                      <a:t>属性值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5916240" y="84204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15" name=""/>
              <p:cNvSpPr/>
              <p:nvPr/>
            </p:nvSpPr>
            <p:spPr>
              <a:xfrm>
                <a:off x="990720" y="838080"/>
                <a:ext cx="7543080" cy="5317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快速创建报表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QuickReport Wizard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ther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从弹出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 Item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中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usines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页面，然后选取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Report Wizar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后，就弹出选择报表类型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然后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art Wizar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就会弹出设置数据源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nish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就完成了报表的设计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32050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648320" cy="3837240"/>
          </a:xfrm>
          <a:prstGeom prst="rect">
            <a:avLst/>
          </a:prstGeom>
          <a:ln w="0">
            <a:noFill/>
          </a:ln>
        </p:spPr>
      </p:pic>
      <p:sp>
        <p:nvSpPr>
          <p:cNvPr id="2121" name=""/>
          <p:cNvSpPr/>
          <p:nvPr/>
        </p:nvSpPr>
        <p:spPr>
          <a:xfrm>
            <a:off x="19051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New Item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3386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3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129200" cy="3156120"/>
          </a:xfrm>
          <a:prstGeom prst="rect">
            <a:avLst/>
          </a:prstGeom>
          <a:ln w="0">
            <a:noFill/>
          </a:ln>
        </p:spPr>
      </p:pic>
      <p:sp>
        <p:nvSpPr>
          <p:cNvPr id="2124" name=""/>
          <p:cNvSpPr/>
          <p:nvPr/>
        </p:nvSpPr>
        <p:spPr>
          <a:xfrm>
            <a:off x="1676520" y="5410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选择报表类型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229280" cy="324000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752480" y="5486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源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316692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9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05480" cy="2778120"/>
          </a:xfrm>
          <a:prstGeom prst="rect">
            <a:avLst/>
          </a:prstGeom>
          <a:ln w="0">
            <a:noFill/>
          </a:ln>
        </p:spPr>
      </p:pic>
      <p:sp>
        <p:nvSpPr>
          <p:cNvPr id="2130" name=""/>
          <p:cNvSpPr/>
          <p:nvPr/>
        </p:nvSpPr>
        <p:spPr>
          <a:xfrm>
            <a:off x="2362320" y="5105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利用报表向导创建的报表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利用报表模板创建报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Report Label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模板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Report Lis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模板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 Report Master/Detai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模板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/>
          <p:nvPr/>
        </p:nvSpPr>
        <p:spPr>
          <a:xfrm>
            <a:off x="35481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33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724640" cy="3867120"/>
          </a:xfrm>
          <a:prstGeom prst="rect">
            <a:avLst/>
          </a:prstGeom>
          <a:ln w="0">
            <a:noFill/>
          </a:ln>
        </p:spPr>
      </p:pic>
      <p:sp>
        <p:nvSpPr>
          <p:cNvPr id="2134" name=""/>
          <p:cNvSpPr/>
          <p:nvPr/>
        </p:nvSpPr>
        <p:spPr>
          <a:xfrm>
            <a:off x="1676520" y="5410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选择模板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328140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36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567320" cy="3151080"/>
          </a:xfrm>
          <a:prstGeom prst="rect">
            <a:avLst/>
          </a:prstGeom>
          <a:ln w="0">
            <a:noFill/>
          </a:ln>
        </p:spPr>
      </p:pic>
      <p:sp>
        <p:nvSpPr>
          <p:cNvPr id="2137" name=""/>
          <p:cNvSpPr/>
          <p:nvPr/>
        </p:nvSpPr>
        <p:spPr>
          <a:xfrm>
            <a:off x="1828800" y="5105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8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uickReport Label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模板生成的报表窗体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32529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433840" cy="3532320"/>
          </a:xfrm>
          <a:prstGeom prst="rect">
            <a:avLst/>
          </a:prstGeom>
          <a:ln w="0">
            <a:noFill/>
          </a:ln>
        </p:spPr>
      </p:pic>
      <p:sp>
        <p:nvSpPr>
          <p:cNvPr id="2140" name=""/>
          <p:cNvSpPr/>
          <p:nvPr/>
        </p:nvSpPr>
        <p:spPr>
          <a:xfrm>
            <a:off x="1752480" y="5334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uickReport 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模板生成的报表窗体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814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414680" cy="3714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5562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ODBC Data Sourc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THANK YOU VERY MUCH </a:t>
            </a: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！</a:t>
            </a:r>
            <a:endParaRPr b="1" lang="en-US" sz="4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1142640" y="1912680"/>
            <a:ext cx="701532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ahoma"/>
              </a:rPr>
              <a:t>本章到此结束，</a:t>
            </a:r>
            <a:endParaRPr b="1" lang="en-US" sz="54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ahoma"/>
              </a:rPr>
              <a:t>谢谢您的光临！</a:t>
            </a:r>
            <a:endParaRPr b="1" lang="en-US" sz="5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44" name="">
            <a:hlinkClick r:id="" action="ppaction://hlinkshowjump?jump=endshow"/>
          </p:cNvPr>
          <p:cNvSpPr/>
          <p:nvPr/>
        </p:nvSpPr>
        <p:spPr>
          <a:xfrm>
            <a:off x="5562720" y="6208200"/>
            <a:ext cx="122220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32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257800" cy="3674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3623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创建新数据源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1957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414760" cy="3578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5486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ODBC Microsoft Access Setu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2888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51160" cy="3600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5410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0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New ODBC Driv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本章要点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应用程序如何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和数据库相连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如何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设置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库桌面系统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Database Desktop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集控件的使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控制控件的使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的图表显示及报表打印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59568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786200" cy="2381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1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New Database Ali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910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62600" cy="3336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0040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新的别名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桌面系统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4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Database Desktop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概述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6.4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5" action="ppaction://hlinksldjump"/>
              </a:rPr>
              <a:t>设定工作目录和私有目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6.4.3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创建数据库表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9" action="ppaction://hlinksldjump"/>
              </a:rPr>
              <a:t>6.4.4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0" action="ppaction://hlinksldjump"/>
              </a:rPr>
              <a:t>数据库表的属性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1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6.4.5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3" action="ppaction://hlinksldjump"/>
              </a:rPr>
              <a:t>创建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  <a:hlinkClick r:id="rId14" action="ppaction://hlinksldjump"/>
              </a:rPr>
              <a:t>SQL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5" action="ppaction://hlinksldjump"/>
              </a:rPr>
              <a:t>类型数据表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6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7" action="ppaction://hlinksldjump"/>
              </a:rPr>
              <a:t>6.4.6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在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  <a:hlinkClick r:id="rId19" action="ppaction://hlinksldjump"/>
              </a:rPr>
              <a:t>Database Desktop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0" action="ppaction://hlinksldjump"/>
              </a:rPr>
              <a:t>中使用查询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atabase Deskto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概述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中主要有三种类型的窗口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表窗口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查询窗口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编辑器（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812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15000" cy="333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8108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3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base Deskt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设定工作目录和私有目录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设置工作目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指在打开或者保存文件时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首先用来寻找文件的地方。例如，我们将工作目录设置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:\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设置私有目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是用户自己使用的目录，在网络上的其他用户看不到这个目录。例如，我们将私有目录设置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:\priv_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339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76720" cy="2562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43000" y="4267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工作目录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276360" cy="1733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24280" y="4267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私有目录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257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14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设置目录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创建数据库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ab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则会出现选择数据库表类型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，则会出现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对话框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定义字段，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iz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列中输入字段的宽度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ave As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将定义好的数据表保存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udent.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028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05640" cy="3160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5272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选择数据表类型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28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19880" cy="3243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28800" y="5257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定义数据表结构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lphi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系统概述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6-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控件的继承关系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828800"/>
            <a:ext cx="7772040" cy="3733560"/>
            <a:chOff x="533520" y="1828800"/>
            <a:chExt cx="7772040" cy="3733560"/>
          </a:xfrm>
        </p:grpSpPr>
        <p:sp>
          <p:nvSpPr>
            <p:cNvPr id="118" name=""/>
            <p:cNvSpPr/>
            <p:nvPr/>
          </p:nvSpPr>
          <p:spPr>
            <a:xfrm>
              <a:off x="2602800" y="182880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542600" y="2648880"/>
              <a:ext cx="1510920" cy="66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1600" y="2646360"/>
              <a:ext cx="986400" cy="6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3364560"/>
              <a:ext cx="20692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Client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5000" y="336456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BDE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15080" y="4153680"/>
              <a:ext cx="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85000" y="477252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DB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909760" y="2691720"/>
              <a:ext cx="636480" cy="9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67120" y="223344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Query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88880" y="3641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84400" y="319356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StoredProc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88880" y="3663000"/>
              <a:ext cx="73008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1680" y="426024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Table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241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38960" cy="2877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2880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添加记录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表的属性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有效性检验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Validity Check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参照完整性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Table Lookup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第二索引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Secondary Indexes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引用完整性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Referential Integrity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数据表的密码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Password Security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数据表语言驱动程序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Table Language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6-18∽23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1910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809960" cy="320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62320" y="5257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8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参照完整性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624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1120" cy="3759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57400" y="5486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9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定义第二索引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0520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248440" cy="2684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37160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引用完整性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7668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943440" cy="3586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0968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主密码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529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214520" cy="3027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71600" y="5029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辅助密码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5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562720" cy="2333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00200" y="5181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表语言驱动程序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5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创建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SQL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类型数据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ab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在数据表类型对话框中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TERBA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则生成创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类型的数据表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索引的定义是通过单击对话框右边的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fine Index…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打开定义索引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在完成索引定义之后，要为索引命名，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出现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对话框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9955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00600" cy="3089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81080" y="5257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创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类型数据表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引擎管理器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933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2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D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简介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4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6.2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6" action="ppaction://hlinksldjump"/>
              </a:rPr>
              <a:t>数据库引擎管理器的功能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4005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114800" cy="34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14600" y="5410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定义索引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4815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25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47920" y="4952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索引命名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6.4.6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Database Desktop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中使用查询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提供了两种查询工具，即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 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打开一个新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窗口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单击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下的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lect Alias…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将出现设置数据库别名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该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的执行结果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，在输出窗口中给出了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udent.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表中的所有数据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6216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76920" cy="2351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09680" y="4876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962600" cy="2598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5248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8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库别名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10500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52840" cy="3076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05120" y="5257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的查询结果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 Query…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查询窗口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则打开查询属性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，单击工具栏中的“显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”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how SQL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可以看到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自动生成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单击“执行”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un Query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执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查询，执行结果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2576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267600" cy="1952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479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0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B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查询窗口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290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886200" cy="3514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895480" y="51055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查询排序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384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05240" cy="1554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B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生成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2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BD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简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库应用程序访问各种数据库提供了一致的接口。它具有以下一些特点：</a:t>
            </a: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访问任何一种格式的数据库，用户不必修改程序代码，只需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中设置新的数据库的服务器名或者路径即可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622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524560" cy="2444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6002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33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QBE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查询执行结果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集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5.1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" action="ppaction://hlinksldjump"/>
              </a:rPr>
              <a:t>数据访问控件简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3" action="ppaction://hlinksldjump"/>
              </a:rPr>
              <a:t>6.5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4" action="ppaction://hlinksldjump"/>
              </a:rPr>
              <a:t>数据集控件及其应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6.5.3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TTabl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控件及其使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8" action="ppaction://hlinksldjump"/>
              </a:rPr>
              <a:t>6.5.4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9" action="ppaction://hlinksldjump"/>
              </a:rPr>
              <a:t>TQuery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0" action="ppaction://hlinksldjump"/>
              </a:rPr>
              <a:t>控件及其使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1" action="ppaction://hlinksldjump"/>
              </a:rPr>
              <a:t>6.5.5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TDataSourc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3" action="ppaction://hlinksldjump"/>
              </a:rPr>
              <a:t>控件及其使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访问控件简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462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12952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288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4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栏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集控件及其应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控件的状态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非活动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activ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浏览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row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编辑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di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插入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ser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查找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tKey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处理计算字段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alcFields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的打开和关闭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打开数据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通过设置数据集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ct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ru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来打开与数据集相连的数据库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调用数据集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pen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，打开与数据集控件相连的数据库表，这种方法只能在程序运行过程中通过程序进行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关闭数据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设置数据集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ct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al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以关闭与数据集控件相连的数据库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调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los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以关闭与数据集控件相连的数据集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的浏览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数据集的浏览方法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520" y="2209680"/>
            <a:ext cx="8152920" cy="4114440"/>
            <a:chOff x="533520" y="2209680"/>
            <a:chExt cx="8152920" cy="4114440"/>
          </a:xfrm>
        </p:grpSpPr>
        <p:grpSp>
          <p:nvGrpSpPr>
            <p:cNvPr id="284" name=""/>
            <p:cNvGrpSpPr/>
            <p:nvPr/>
          </p:nvGrpSpPr>
          <p:grpSpPr>
            <a:xfrm>
              <a:off x="540360" y="2214720"/>
              <a:ext cx="8137440" cy="4102560"/>
              <a:chOff x="540360" y="2214720"/>
              <a:chExt cx="8137440" cy="410256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40360" y="2214720"/>
                <a:ext cx="2558520" cy="683280"/>
                <a:chOff x="540360" y="2214720"/>
                <a:chExt cx="2558520" cy="6832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40800" y="221472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方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40360" y="221472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099240" y="2214720"/>
                <a:ext cx="5578560" cy="683280"/>
                <a:chOff x="3099240" y="2214720"/>
                <a:chExt cx="5578560" cy="683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199680" y="221472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099240" y="221472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540360" y="2898360"/>
                <a:ext cx="2558520" cy="683280"/>
                <a:chOff x="540360" y="2898360"/>
                <a:chExt cx="2558520" cy="683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0800" y="289836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ir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0360" y="289836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099240" y="2898360"/>
                <a:ext cx="5578560" cy="683280"/>
                <a:chOff x="3099240" y="2898360"/>
                <a:chExt cx="5578560" cy="6832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199680" y="289836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第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99240" y="289836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40360" y="3582000"/>
                <a:ext cx="2558520" cy="683640"/>
                <a:chOff x="540360" y="3582000"/>
                <a:chExt cx="2558520" cy="6836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40800" y="3582000"/>
                  <a:ext cx="235764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ex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0360" y="3582000"/>
                  <a:ext cx="255852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099240" y="3582000"/>
                <a:ext cx="5578560" cy="683640"/>
                <a:chOff x="3099240" y="3582000"/>
                <a:chExt cx="5578560" cy="6836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199680" y="3582000"/>
                  <a:ext cx="537768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下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99240" y="3582000"/>
                  <a:ext cx="55785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40360" y="4266360"/>
                <a:ext cx="2558520" cy="683280"/>
                <a:chOff x="540360" y="4266360"/>
                <a:chExt cx="2558520" cy="683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40800" y="426636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ri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0360" y="426636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099240" y="4266360"/>
                <a:ext cx="5578560" cy="683280"/>
                <a:chOff x="3099240" y="4266360"/>
                <a:chExt cx="5578560" cy="683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199680" y="426636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前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99240" y="426636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40360" y="4950000"/>
                <a:ext cx="2558520" cy="683280"/>
                <a:chOff x="540360" y="4950000"/>
                <a:chExt cx="2558520" cy="683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40800" y="495000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0360" y="495000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099240" y="4950000"/>
                <a:ext cx="5578560" cy="683280"/>
                <a:chOff x="3099240" y="4950000"/>
                <a:chExt cx="5578560" cy="683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199680" y="495000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最后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099240" y="495000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40360" y="5634000"/>
                <a:ext cx="2558520" cy="683280"/>
                <a:chOff x="540360" y="5634000"/>
                <a:chExt cx="2558520" cy="683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40800" y="563400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MoveBy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（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）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0360" y="563400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099240" y="5634000"/>
                <a:ext cx="5578560" cy="683280"/>
                <a:chOff x="3099240" y="5634000"/>
                <a:chExt cx="5578560" cy="683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99680" y="563400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是正，将记录指针下移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条记录；否则，上移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099240" y="563400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533520" y="2209680"/>
              <a:ext cx="815292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533520" y="2209680"/>
            <a:ext cx="7848000" cy="3581280"/>
            <a:chOff x="533520" y="2209680"/>
            <a:chExt cx="7848000" cy="3581280"/>
          </a:xfrm>
        </p:grpSpPr>
        <p:grpSp>
          <p:nvGrpSpPr>
            <p:cNvPr id="323" name=""/>
            <p:cNvGrpSpPr/>
            <p:nvPr/>
          </p:nvGrpSpPr>
          <p:grpSpPr>
            <a:xfrm>
              <a:off x="540000" y="2219040"/>
              <a:ext cx="7833240" cy="3561480"/>
              <a:chOff x="540000" y="2219040"/>
              <a:chExt cx="7833240" cy="35614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540000" y="2219040"/>
                <a:ext cx="2462760" cy="1186560"/>
                <a:chOff x="540000" y="2219040"/>
                <a:chExt cx="2462760" cy="11865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36840" y="2219040"/>
                  <a:ext cx="2269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40000" y="2219040"/>
                  <a:ext cx="246276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3003120" y="2219040"/>
                <a:ext cx="5370120" cy="1186560"/>
                <a:chOff x="3003120" y="2219040"/>
                <a:chExt cx="5370120" cy="11865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099960" y="2219040"/>
                  <a:ext cx="5176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003120" y="2219040"/>
                  <a:ext cx="537012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40000" y="3405960"/>
                <a:ext cx="2462760" cy="1186560"/>
                <a:chOff x="540000" y="3405960"/>
                <a:chExt cx="2462760" cy="11865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36840" y="3405960"/>
                  <a:ext cx="2269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OF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40000" y="3405960"/>
                  <a:ext cx="246276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003120" y="3405960"/>
                <a:ext cx="5370120" cy="1186560"/>
                <a:chOff x="3003120" y="3405960"/>
                <a:chExt cx="5370120" cy="1186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099960" y="3405960"/>
                  <a:ext cx="5176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记录指针位于数据集开头时，属性值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，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否则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003120" y="3405960"/>
                  <a:ext cx="537012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40000" y="4593240"/>
                <a:ext cx="2462760" cy="1187280"/>
                <a:chOff x="540000" y="4593240"/>
                <a:chExt cx="2462760" cy="1187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36840" y="4593240"/>
                  <a:ext cx="22694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OF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40000" y="4593240"/>
                  <a:ext cx="24627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03120" y="4593240"/>
                <a:ext cx="5370120" cy="1187280"/>
                <a:chOff x="3003120" y="4593240"/>
                <a:chExt cx="5370120" cy="1187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99960" y="4593240"/>
                  <a:ext cx="51764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记录指针位于数据集结尾时，属性值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，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否则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03120" y="4593240"/>
                  <a:ext cx="5370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533520" y="2209680"/>
              <a:ext cx="7848000" cy="3581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819520" y="1219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数据集的浏览属性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中的数据维护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数据集中数据维护的方法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3520" y="1803240"/>
            <a:ext cx="8152920" cy="4520880"/>
            <a:chOff x="533520" y="1803240"/>
            <a:chExt cx="8152920" cy="4520880"/>
          </a:xfrm>
        </p:grpSpPr>
        <p:grpSp>
          <p:nvGrpSpPr>
            <p:cNvPr id="347" name=""/>
            <p:cNvGrpSpPr/>
            <p:nvPr/>
          </p:nvGrpSpPr>
          <p:grpSpPr>
            <a:xfrm>
              <a:off x="540360" y="1809720"/>
              <a:ext cx="8138520" cy="4507200"/>
              <a:chOff x="540360" y="1809720"/>
              <a:chExt cx="8138520" cy="45072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40360" y="1809720"/>
                <a:ext cx="1584000" cy="824760"/>
                <a:chOff x="540360" y="1809720"/>
                <a:chExt cx="1584000" cy="824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41160" y="1809720"/>
                  <a:ext cx="13827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方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40360" y="1809720"/>
                  <a:ext cx="158400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124720" y="1809720"/>
                <a:ext cx="6554160" cy="824760"/>
                <a:chOff x="2124720" y="1809720"/>
                <a:chExt cx="6554160" cy="8247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225520" y="1809720"/>
                  <a:ext cx="63525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124720" y="1809720"/>
                  <a:ext cx="655416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40360" y="2634840"/>
                <a:ext cx="1584000" cy="824760"/>
                <a:chOff x="540360" y="2634840"/>
                <a:chExt cx="1584000" cy="8247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1160" y="2634840"/>
                  <a:ext cx="13827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0360" y="2634840"/>
                  <a:ext cx="158400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124720" y="2634840"/>
                <a:ext cx="6554160" cy="824760"/>
                <a:chOff x="2124720" y="2634840"/>
                <a:chExt cx="6554160" cy="8247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225520" y="2634840"/>
                  <a:ext cx="63525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数据集置为编辑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124720" y="2634840"/>
                  <a:ext cx="655416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40360" y="3460320"/>
                <a:ext cx="1584000" cy="1015200"/>
                <a:chOff x="540360" y="3460320"/>
                <a:chExt cx="1584000" cy="1015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41160" y="3460320"/>
                  <a:ext cx="13827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ppe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40360" y="3460320"/>
                  <a:ext cx="158400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124720" y="3460320"/>
                <a:ext cx="6554160" cy="1015200"/>
                <a:chOff x="2124720" y="3460320"/>
                <a:chExt cx="6554160" cy="10152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225520" y="3460320"/>
                  <a:ext cx="63525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保存所有被修改的记录，然后将记录指针移到表中的最后一条记录，且将数据集置为插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24720" y="3460320"/>
                  <a:ext cx="655416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0360" y="4476240"/>
                <a:ext cx="1584000" cy="824760"/>
                <a:chOff x="540360" y="4476240"/>
                <a:chExt cx="1584000" cy="8247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1160" y="4476240"/>
                  <a:ext cx="13827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0360" y="4476240"/>
                  <a:ext cx="158400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124720" y="4476240"/>
                <a:ext cx="6554160" cy="824760"/>
                <a:chOff x="2124720" y="4476240"/>
                <a:chExt cx="6554160" cy="8247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225520" y="4476240"/>
                  <a:ext cx="63525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保存所有被修改的记录，将数据集置为插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124720" y="4476240"/>
                  <a:ext cx="655416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40360" y="5301720"/>
                <a:ext cx="1584000" cy="1015200"/>
                <a:chOff x="540360" y="5301720"/>
                <a:chExt cx="1584000" cy="10152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41160" y="5301720"/>
                  <a:ext cx="13827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o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40360" y="5301720"/>
                  <a:ext cx="158400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124720" y="5301720"/>
                <a:ext cx="6554160" cy="1015200"/>
                <a:chOff x="2124720" y="5301720"/>
                <a:chExt cx="6554160" cy="1015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225520" y="5301720"/>
                  <a:ext cx="63525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插入或者被修改的记录写回到数据表，当保存成功时数据集回到浏览状态，若保存不成功则数据集恢复原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124720" y="5301720"/>
                  <a:ext cx="655416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8" name=""/>
            <p:cNvSpPr/>
            <p:nvPr/>
          </p:nvSpPr>
          <p:spPr>
            <a:xfrm>
              <a:off x="533520" y="1803240"/>
              <a:ext cx="8152920" cy="4520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533520" y="1219320"/>
            <a:ext cx="8076600" cy="5028840"/>
            <a:chOff x="533520" y="1219320"/>
            <a:chExt cx="8076600" cy="5028840"/>
          </a:xfrm>
        </p:grpSpPr>
        <p:grpSp>
          <p:nvGrpSpPr>
            <p:cNvPr id="380" name=""/>
            <p:cNvGrpSpPr/>
            <p:nvPr/>
          </p:nvGrpSpPr>
          <p:grpSpPr>
            <a:xfrm>
              <a:off x="540000" y="1225440"/>
              <a:ext cx="8062200" cy="5015520"/>
              <a:chOff x="540000" y="1225440"/>
              <a:chExt cx="8062200" cy="501552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40000" y="1225440"/>
                <a:ext cx="1569240" cy="775800"/>
                <a:chOff x="540000" y="1225440"/>
                <a:chExt cx="1569240" cy="775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639720" y="1225440"/>
                  <a:ext cx="137016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方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40000" y="1225440"/>
                  <a:ext cx="156924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109600" y="1225440"/>
                <a:ext cx="6492600" cy="775800"/>
                <a:chOff x="2109600" y="1225440"/>
                <a:chExt cx="6492600" cy="775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209320" y="1225440"/>
                  <a:ext cx="629280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09600" y="1225440"/>
                  <a:ext cx="649260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540000" y="2001600"/>
                <a:ext cx="1569240" cy="775800"/>
                <a:chOff x="540000" y="2001600"/>
                <a:chExt cx="1569240" cy="7758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39720" y="2001600"/>
                  <a:ext cx="137016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nce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40000" y="2001600"/>
                  <a:ext cx="156924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109600" y="2001600"/>
                <a:ext cx="6492600" cy="775800"/>
                <a:chOff x="2109600" y="2001600"/>
                <a:chExt cx="6492600" cy="7758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209320" y="2001600"/>
                  <a:ext cx="629280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取消当前的操作且将数据集置为浏览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109600" y="2001600"/>
                  <a:ext cx="649260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40000" y="2778120"/>
                <a:ext cx="1569240" cy="776520"/>
                <a:chOff x="540000" y="2778120"/>
                <a:chExt cx="1569240" cy="7765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39720" y="2778120"/>
                  <a:ext cx="137016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elet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40000" y="2778120"/>
                  <a:ext cx="1569240" cy="77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09600" y="2778120"/>
                <a:ext cx="6492600" cy="776520"/>
                <a:chOff x="2109600" y="2778120"/>
                <a:chExt cx="6492600" cy="7765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209320" y="2778120"/>
                  <a:ext cx="629280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删除当前记录指针所在的记录且将数据集置为浏览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109600" y="2778120"/>
                  <a:ext cx="6492600" cy="77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40000" y="3555000"/>
                <a:ext cx="1569240" cy="954360"/>
                <a:chOff x="540000" y="3555000"/>
                <a:chExt cx="1569240" cy="9543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39720" y="3555000"/>
                  <a:ext cx="1370160" cy="95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ppendRecor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40000" y="3555000"/>
                  <a:ext cx="1569240" cy="95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109600" y="3555000"/>
                <a:ext cx="6492600" cy="954360"/>
                <a:chOff x="2109600" y="3555000"/>
                <a:chExt cx="6492600" cy="9543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209320" y="3555000"/>
                  <a:ext cx="6292800" cy="95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在数据表的最后插入一条新记录，记录的各个字段值作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ppendRecord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的参数传递给新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109600" y="3555000"/>
                  <a:ext cx="6492600" cy="95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540000" y="4510080"/>
                <a:ext cx="1569240" cy="954720"/>
                <a:chOff x="540000" y="4510080"/>
                <a:chExt cx="1569240" cy="9547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39720" y="4510080"/>
                  <a:ext cx="1370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Recor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40000" y="4510080"/>
                  <a:ext cx="156924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109600" y="4510080"/>
                <a:ext cx="6492600" cy="954720"/>
                <a:chOff x="2109600" y="4510080"/>
                <a:chExt cx="6492600" cy="9547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209320" y="4510080"/>
                  <a:ext cx="629280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在当前指针所在记录的后面插入一条新记录， 记录的各个字段值作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Record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的参数传递给新记录。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109600" y="4510080"/>
                  <a:ext cx="649260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540000" y="5465160"/>
                <a:ext cx="1569240" cy="775800"/>
                <a:chOff x="540000" y="5465160"/>
                <a:chExt cx="1569240" cy="7758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39720" y="5465160"/>
                  <a:ext cx="137016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etField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40000" y="5465160"/>
                  <a:ext cx="156924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109600" y="5465160"/>
                <a:ext cx="6492600" cy="775800"/>
                <a:chOff x="2109600" y="5465160"/>
                <a:chExt cx="6492600" cy="775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2209320" y="5465160"/>
                  <a:ext cx="629280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修改当前记录，字段名和相应的字段值作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etFields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的参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109600" y="5465160"/>
                  <a:ext cx="649260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533520" y="1219320"/>
              <a:ext cx="8076600" cy="5028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非常适合开发大型的客户机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服务器应用程序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果要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能访问一个新的数据库，只要在系统中安装新数据库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或者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就可以了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位的数据库引擎，支持多线程和有优先级的多任务处理，多个应用程序可以同时运行并访问同一个数据库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447920" y="1676160"/>
            <a:ext cx="6781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的书签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有关书签操作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提供了三个方法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GetBookMark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GotoBookMark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reeBookMark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控件与数据控制控件的连接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集控件具有三个方法，用于控制数据集控件和与其相连的数据控制控件之间的连接，以及控制数据控制控件的显示。它们是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isableControl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nableControl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fres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⒎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集控件的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Open/Afteropen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打开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Close/Afterclo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关闭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Insert/AfterInser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进入插入状态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Edit/AfterEdi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被编辑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Post/AfterPos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保存被修改的记录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Cancel/AfterCancel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取消进一步操作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Delete/AfterDelet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删除当前记录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NewRecor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当建立一条新记录时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CalcFields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当为表中的计算字段计算字段值时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Tabl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及其使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Tabe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Nam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ableNam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KeyExclus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Field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FieldsCou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Nam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FieldName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xclus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anModif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Tab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方法及应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设定数据库表的使用范围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查询数据库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生成数据库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762120" y="685800"/>
            <a:ext cx="7162200" cy="5794200"/>
            <a:chOff x="762120" y="685800"/>
            <a:chExt cx="7162200" cy="5794200"/>
          </a:xfrm>
        </p:grpSpPr>
        <p:grpSp>
          <p:nvGrpSpPr>
            <p:cNvPr id="427" name=""/>
            <p:cNvGrpSpPr/>
            <p:nvPr/>
          </p:nvGrpSpPr>
          <p:grpSpPr>
            <a:xfrm>
              <a:off x="767880" y="690120"/>
              <a:ext cx="7148520" cy="5784120"/>
              <a:chOff x="767880" y="690120"/>
              <a:chExt cx="7148520" cy="57841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767880" y="690120"/>
                <a:ext cx="2358360" cy="578160"/>
                <a:chOff x="767880" y="690120"/>
                <a:chExt cx="2358360" cy="5781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56440" y="69012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67880" y="69012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3126600" y="690120"/>
                <a:ext cx="2431800" cy="578160"/>
                <a:chOff x="3126600" y="690120"/>
                <a:chExt cx="2431800" cy="578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214440" y="69012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126600" y="69012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58760" y="690120"/>
                <a:ext cx="2357640" cy="578160"/>
                <a:chOff x="5558760" y="690120"/>
                <a:chExt cx="2357640" cy="5781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646600" y="69012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58760" y="69012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67880" y="1268280"/>
                <a:ext cx="2358360" cy="1735200"/>
                <a:chOff x="767880" y="1268280"/>
                <a:chExt cx="2358360" cy="17352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856440" y="1268280"/>
                  <a:ext cx="2181240" cy="17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67880" y="1268280"/>
                  <a:ext cx="2358360" cy="173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126600" y="1268280"/>
                <a:ext cx="2431800" cy="578160"/>
                <a:chOff x="3126600" y="1268280"/>
                <a:chExt cx="2431800" cy="5781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214440" y="126828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126600" y="126828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5558760" y="1268280"/>
                <a:ext cx="2357640" cy="578160"/>
                <a:chOff x="5558760" y="1268280"/>
                <a:chExt cx="2357640" cy="5781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646600" y="126828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558760" y="126828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126600" y="1846800"/>
                <a:ext cx="2431800" cy="578520"/>
                <a:chOff x="3126600" y="1846800"/>
                <a:chExt cx="2431800" cy="578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3214440" y="1846800"/>
                  <a:ext cx="22550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126600" y="1846800"/>
                  <a:ext cx="243180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558760" y="1846800"/>
                <a:ext cx="2357640" cy="578520"/>
                <a:chOff x="5558760" y="1846800"/>
                <a:chExt cx="2357640" cy="5785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646600" y="1846800"/>
                  <a:ext cx="21812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mployee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558760" y="1846800"/>
                  <a:ext cx="235764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126600" y="2425320"/>
                <a:ext cx="2431800" cy="578160"/>
                <a:chOff x="3126600" y="2425320"/>
                <a:chExt cx="2431800" cy="5781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214440" y="242532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126600" y="242532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558760" y="2425320"/>
                <a:ext cx="2357640" cy="578160"/>
                <a:chOff x="5558760" y="2425320"/>
                <a:chExt cx="2357640" cy="578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646600" y="242532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558760" y="242532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767880" y="3003840"/>
                <a:ext cx="2358360" cy="578160"/>
                <a:chOff x="767880" y="3003840"/>
                <a:chExt cx="2358360" cy="578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56440" y="300384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67880" y="300384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126600" y="3003840"/>
                <a:ext cx="2431800" cy="578160"/>
                <a:chOff x="3126600" y="3003840"/>
                <a:chExt cx="2431800" cy="57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214440" y="300384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126600" y="300384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558760" y="3003840"/>
                <a:ext cx="2357640" cy="578160"/>
                <a:chOff x="5558760" y="3003840"/>
                <a:chExt cx="2357640" cy="578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646600" y="300384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Query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558760" y="300384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67880" y="3582360"/>
                <a:ext cx="2358360" cy="578160"/>
                <a:chOff x="767880" y="3582360"/>
                <a:chExt cx="2358360" cy="5781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856440" y="35823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7880" y="358236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126600" y="3582360"/>
                <a:ext cx="2431800" cy="578160"/>
                <a:chOff x="3126600" y="3582360"/>
                <a:chExt cx="2431800" cy="5781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214440" y="358236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26600" y="358236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558760" y="3582360"/>
                <a:ext cx="2357640" cy="578160"/>
                <a:chOff x="5558760" y="3582360"/>
                <a:chExt cx="2357640" cy="5781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646600" y="35823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雇员号：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558760" y="358236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67880" y="4160520"/>
                <a:ext cx="2358360" cy="578520"/>
                <a:chOff x="767880" y="4160520"/>
                <a:chExt cx="2358360" cy="5785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56440" y="4160520"/>
                  <a:ext cx="21812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7880" y="4160520"/>
                  <a:ext cx="235836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3126600" y="4160520"/>
                <a:ext cx="2431800" cy="578520"/>
                <a:chOff x="3126600" y="4160520"/>
                <a:chExt cx="2431800" cy="578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214440" y="4160520"/>
                  <a:ext cx="22550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126600" y="4160520"/>
                  <a:ext cx="243180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58760" y="4160520"/>
                <a:ext cx="2357640" cy="578520"/>
                <a:chOff x="5558760" y="4160520"/>
                <a:chExt cx="2357640" cy="578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646600" y="4160520"/>
                  <a:ext cx="21812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姓名：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58760" y="4160520"/>
                  <a:ext cx="235764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67880" y="4739400"/>
                <a:ext cx="2358360" cy="578160"/>
                <a:chOff x="767880" y="4739400"/>
                <a:chExt cx="2358360" cy="578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56440" y="473940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67880" y="473940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126600" y="4739400"/>
                <a:ext cx="2431800" cy="578160"/>
                <a:chOff x="3126600" y="4739400"/>
                <a:chExt cx="2431800" cy="578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214440" y="473940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6600" y="473940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558760" y="4739400"/>
                <a:ext cx="2357640" cy="578160"/>
                <a:chOff x="5558760" y="4739400"/>
                <a:chExt cx="2357640" cy="578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646600" y="473940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示信息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58760" y="473940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67880" y="5317560"/>
                <a:ext cx="2358360" cy="578160"/>
                <a:chOff x="767880" y="5317560"/>
                <a:chExt cx="2358360" cy="578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856440" y="53175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utton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67880" y="531756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126600" y="5317560"/>
                <a:ext cx="2431800" cy="578160"/>
                <a:chOff x="3126600" y="5317560"/>
                <a:chExt cx="2431800" cy="578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214440" y="531756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126600" y="531756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558760" y="5317560"/>
                <a:ext cx="2357640" cy="578160"/>
                <a:chOff x="5558760" y="5317560"/>
                <a:chExt cx="2357640" cy="578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646600" y="53175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查询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558760" y="531756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767880" y="5896080"/>
                <a:ext cx="2358360" cy="578160"/>
                <a:chOff x="767880" y="5896080"/>
                <a:chExt cx="2358360" cy="578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56440" y="589608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utton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67880" y="589608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26600" y="5896080"/>
                <a:ext cx="2431800" cy="578160"/>
                <a:chOff x="3126600" y="5896080"/>
                <a:chExt cx="2431800" cy="578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214440" y="589608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26600" y="589608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558760" y="5896080"/>
                <a:ext cx="2357640" cy="578160"/>
                <a:chOff x="5558760" y="5896080"/>
                <a:chExt cx="2357640" cy="578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646600" y="589608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退出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558760" y="589608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762120" y="685800"/>
              <a:ext cx="7162200" cy="5794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080200" y="1066680"/>
            <a:ext cx="546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个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6192360"/>
            <a:ext cx="122220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4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Query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及其使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和方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704880" y="3276720"/>
          <a:ext cx="7578720" cy="17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3276720"/>
                    <a:ext cx="7578720" cy="17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静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查询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建立静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查询的步骤如下：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为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atabaseNam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为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ataS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连接数据控制控件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执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语句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动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语句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在程序中为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语句中的参数赋值通常有三种方法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aram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aramByNam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Param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象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aramValue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2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引擎管理器的功能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4495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数据库别名的管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驱动程序的管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系统配置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685800" y="752400"/>
            <a:ext cx="6687720" cy="5114880"/>
            <a:chOff x="685800" y="752400"/>
            <a:chExt cx="6687720" cy="5114880"/>
          </a:xfrm>
        </p:grpSpPr>
        <p:grpSp>
          <p:nvGrpSpPr>
            <p:cNvPr id="523" name=""/>
            <p:cNvGrpSpPr/>
            <p:nvPr/>
          </p:nvGrpSpPr>
          <p:grpSpPr>
            <a:xfrm>
              <a:off x="691200" y="756720"/>
              <a:ext cx="6675120" cy="5105520"/>
              <a:chOff x="691200" y="756720"/>
              <a:chExt cx="6675120" cy="51055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691200" y="756720"/>
                <a:ext cx="2072520" cy="567000"/>
                <a:chOff x="691200" y="756720"/>
                <a:chExt cx="2072520" cy="5670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72560" y="75672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91200" y="75672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764080" y="756720"/>
                <a:ext cx="2220480" cy="567000"/>
                <a:chOff x="2764080" y="756720"/>
                <a:chExt cx="2220480" cy="5670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845440" y="75672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764080" y="75672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984920" y="756720"/>
                <a:ext cx="2381400" cy="567000"/>
                <a:chOff x="4984920" y="756720"/>
                <a:chExt cx="2381400" cy="56700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066280" y="75672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984920" y="75672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91200" y="1323720"/>
                <a:ext cx="2072520" cy="567000"/>
                <a:chOff x="691200" y="1323720"/>
                <a:chExt cx="2072520" cy="5670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72560" y="132372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Query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91200" y="132372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764080" y="1323720"/>
                <a:ext cx="2220480" cy="567000"/>
                <a:chOff x="2764080" y="1323720"/>
                <a:chExt cx="2220480" cy="5670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845440" y="132372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64080" y="132372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984920" y="1323720"/>
                <a:ext cx="2381400" cy="567000"/>
                <a:chOff x="4984920" y="1323720"/>
                <a:chExt cx="2381400" cy="5670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066280" y="132372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4920" y="132372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91200" y="1891080"/>
                <a:ext cx="2072520" cy="567360"/>
                <a:chOff x="691200" y="1891080"/>
                <a:chExt cx="2072520" cy="5673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72560" y="1891080"/>
                  <a:ext cx="190980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91200" y="1891080"/>
                  <a:ext cx="207252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764080" y="1891080"/>
                <a:ext cx="2220480" cy="567360"/>
                <a:chOff x="2764080" y="1891080"/>
                <a:chExt cx="2220480" cy="5673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845440" y="1891080"/>
                  <a:ext cx="205776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64080" y="1891080"/>
                  <a:ext cx="222048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4984920" y="1891080"/>
                <a:ext cx="2381400" cy="567360"/>
                <a:chOff x="4984920" y="1891080"/>
                <a:chExt cx="2381400" cy="5673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066280" y="1891080"/>
                  <a:ext cx="22186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Query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984920" y="1891080"/>
                  <a:ext cx="238140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91200" y="2458800"/>
                <a:ext cx="2072520" cy="567000"/>
                <a:chOff x="691200" y="2458800"/>
                <a:chExt cx="2072520" cy="56700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72560" y="245880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91200" y="245880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764080" y="2458800"/>
                <a:ext cx="2220480" cy="567000"/>
                <a:chOff x="2764080" y="2458800"/>
                <a:chExt cx="2220480" cy="56700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845440" y="245880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4080" y="245880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4984920" y="2458800"/>
                <a:ext cx="2381400" cy="567000"/>
                <a:chOff x="4984920" y="2458800"/>
                <a:chExt cx="2381400" cy="56700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066280" y="245880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984920" y="245880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91200" y="3025800"/>
                <a:ext cx="2072520" cy="567000"/>
                <a:chOff x="691200" y="3025800"/>
                <a:chExt cx="2072520" cy="5670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72560" y="302580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utton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91200" y="302580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764080" y="3025800"/>
                <a:ext cx="2220480" cy="567000"/>
                <a:chOff x="2764080" y="3025800"/>
                <a:chExt cx="2220480" cy="5670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845440" y="302580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64080" y="302580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984920" y="3025800"/>
                <a:ext cx="2381400" cy="567000"/>
                <a:chOff x="4984920" y="3025800"/>
                <a:chExt cx="2381400" cy="56700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066280" y="302580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执行</a:t>
                  </a: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(&amp;</a:t>
                  </a: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E)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84920" y="302580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91200" y="3593160"/>
                <a:ext cx="2072520" cy="567000"/>
                <a:chOff x="691200" y="3593160"/>
                <a:chExt cx="2072520" cy="5670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72560" y="359316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utton2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91200" y="359316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2764080" y="3593160"/>
                <a:ext cx="2220480" cy="567000"/>
                <a:chOff x="2764080" y="3593160"/>
                <a:chExt cx="2220480" cy="5670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845440" y="359316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64080" y="359316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4984920" y="3593160"/>
                <a:ext cx="2381400" cy="567000"/>
                <a:chOff x="4984920" y="3593160"/>
                <a:chExt cx="2381400" cy="56700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066280" y="359316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清空</a:t>
                  </a: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(&amp;</a:t>
                  </a: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)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84920" y="359316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91200" y="4160520"/>
                <a:ext cx="2072520" cy="1134720"/>
                <a:chOff x="691200" y="4160520"/>
                <a:chExt cx="2072520" cy="11347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72560" y="4160520"/>
                  <a:ext cx="1909800" cy="11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itButton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91200" y="4160520"/>
                  <a:ext cx="2072520" cy="113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2764080" y="4160520"/>
                <a:ext cx="2220480" cy="567360"/>
                <a:chOff x="2764080" y="4160520"/>
                <a:chExt cx="2220480" cy="5673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845440" y="4160520"/>
                  <a:ext cx="205776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764080" y="4160520"/>
                  <a:ext cx="222048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4984920" y="4160520"/>
                <a:ext cx="2381400" cy="567360"/>
                <a:chOff x="4984920" y="4160520"/>
                <a:chExt cx="2381400" cy="5673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066280" y="4160520"/>
                  <a:ext cx="22186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退出</a:t>
                  </a: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(&amp;</a:t>
                  </a: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X)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984920" y="4160520"/>
                  <a:ext cx="238140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2764080" y="4727880"/>
                <a:ext cx="2220480" cy="567000"/>
                <a:chOff x="2764080" y="4727880"/>
                <a:chExt cx="2220480" cy="567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45440" y="472788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764080" y="472788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984920" y="4727880"/>
                <a:ext cx="2381400" cy="567000"/>
                <a:chOff x="4984920" y="4727880"/>
                <a:chExt cx="2381400" cy="5670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066280" y="472788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984920" y="472788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91200" y="5295240"/>
                <a:ext cx="2072520" cy="567000"/>
                <a:chOff x="691200" y="5295240"/>
                <a:chExt cx="2072520" cy="5670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72560" y="529524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Memo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91200" y="529524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2764080" y="5295240"/>
                <a:ext cx="2220480" cy="567000"/>
                <a:chOff x="2764080" y="5295240"/>
                <a:chExt cx="2220480" cy="5670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845440" y="529524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Lines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764080" y="529524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984920" y="5295240"/>
                <a:ext cx="2381400" cy="567000"/>
                <a:chOff x="4984920" y="5295240"/>
                <a:chExt cx="2381400" cy="56700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066280" y="529524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清除其中内容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984920" y="529524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" name=""/>
            <p:cNvSpPr/>
            <p:nvPr/>
          </p:nvSpPr>
          <p:spPr>
            <a:xfrm>
              <a:off x="685800" y="752400"/>
              <a:ext cx="6687720" cy="5114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485840" y="99072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个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5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ataSourc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及其使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e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、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nab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uto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DataChan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UpdataDat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StateChan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控制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6.1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" action="ppaction://hlinksldjump"/>
              </a:rPr>
              <a:t>数据控制控件简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3" action="ppaction://hlinksldjump"/>
              </a:rPr>
              <a:t>6.6.2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TDBGrid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5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6.6.3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7" action="ppaction://hlinksldjump"/>
              </a:rPr>
              <a:t>TDBNavigator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9" action="ppaction://hlinksldjump"/>
              </a:rPr>
              <a:t>6.6.4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0" action="ppaction://hlinksldjump"/>
              </a:rPr>
              <a:t>TDBText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1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6.6.5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3" action="ppaction://hlinksldjump"/>
              </a:rPr>
              <a:t>TDBEdit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4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5" action="ppaction://hlinksldjump"/>
              </a:rPr>
              <a:t>6.6.6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6" action="ppaction://hlinksldjump"/>
              </a:rPr>
              <a:t>TDBMemo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7" action="ppaction://hlinksldjump"/>
              </a:rPr>
              <a:t>控件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9" action="ppaction://hlinksldjump"/>
              </a:rPr>
              <a:t>6.6.7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0" action="ppaction://hlinksldjump"/>
              </a:rPr>
              <a:t>TDBImag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1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7315200" y="6192360"/>
            <a:ext cx="122220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下一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371240" y="13712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6.8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TDBList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6.6.9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TDBCombo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6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7" action="ppaction://hlinksldjump"/>
              </a:rPr>
              <a:t>6.6.10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8" action="ppaction://hlinksldjump"/>
              </a:rPr>
              <a:t>TDBLookupList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9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0" action="ppaction://hlinksldjump"/>
              </a:rPr>
              <a:t>6.6.1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1" action="ppaction://hlinksldjump"/>
              </a:rPr>
              <a:t>TDBLookupCombo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2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3" action="ppaction://hlinksldjump"/>
              </a:rPr>
              <a:t>6.6.12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4" action="ppaction://hlinksldjump"/>
              </a:rPr>
              <a:t>TDBCheck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5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6" action="ppaction://hlinksldjump"/>
              </a:rPr>
              <a:t>6.6.13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7" action="ppaction://hlinksldjump"/>
              </a:rPr>
              <a:t>TDBRadioGroup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9" action="ppaction://hlinksldjump"/>
              </a:rPr>
              <a:t>6.6.14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0" action="ppaction://hlinksldjump"/>
              </a:rPr>
              <a:t>其他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5252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1835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219320" y="4724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Control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页上的控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控制控件简介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控制控件是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连接到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Tab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中具体的字段控件的，因而数据控制控件具有一些共同的属性，用于连接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Fiel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Fiel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nabl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514600" y="838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6-6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数据控制控件概述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62120" y="1523880"/>
            <a:ext cx="7619400" cy="4876560"/>
            <a:chOff x="762120" y="1523880"/>
            <a:chExt cx="7619400" cy="4876560"/>
          </a:xfrm>
        </p:grpSpPr>
        <p:grpSp>
          <p:nvGrpSpPr>
            <p:cNvPr id="621" name=""/>
            <p:cNvGrpSpPr/>
            <p:nvPr/>
          </p:nvGrpSpPr>
          <p:grpSpPr>
            <a:xfrm>
              <a:off x="768240" y="1530720"/>
              <a:ext cx="7605360" cy="4861440"/>
              <a:chOff x="768240" y="1530720"/>
              <a:chExt cx="7605360" cy="486144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768240" y="1530720"/>
                <a:ext cx="1753200" cy="889920"/>
                <a:chOff x="768240" y="1530720"/>
                <a:chExt cx="1753200" cy="8899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862200" y="1530720"/>
                  <a:ext cx="156492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68240" y="1530720"/>
                  <a:ext cx="17532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2521800" y="1530720"/>
                <a:ext cx="5851800" cy="889920"/>
                <a:chOff x="2521800" y="1530720"/>
                <a:chExt cx="5851800" cy="8899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15400" y="1530720"/>
                  <a:ext cx="566460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说明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521800" y="1530720"/>
                  <a:ext cx="58518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68240" y="2421000"/>
                <a:ext cx="1753200" cy="1095120"/>
                <a:chOff x="768240" y="2421000"/>
                <a:chExt cx="1753200" cy="10951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862200" y="2421000"/>
                  <a:ext cx="156492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Gri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68240" y="2421000"/>
                  <a:ext cx="175320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521800" y="2421000"/>
                <a:ext cx="5851800" cy="1095120"/>
                <a:chOff x="2521800" y="2421000"/>
                <a:chExt cx="5851800" cy="10951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15400" y="2421000"/>
                  <a:ext cx="566460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网格形式显示来自数据源的数据，可以在设计时使用字段编辑器，或者在运行时动态生成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521800" y="2421000"/>
                  <a:ext cx="585180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768240" y="3516480"/>
                <a:ext cx="1753200" cy="1094400"/>
                <a:chOff x="768240" y="3516480"/>
                <a:chExt cx="1753200" cy="10944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862200" y="3516480"/>
                  <a:ext cx="1564920" cy="10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68240" y="3516480"/>
                  <a:ext cx="1753200" cy="109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2521800" y="3516480"/>
                <a:ext cx="5851800" cy="1094400"/>
                <a:chOff x="2521800" y="3516480"/>
                <a:chExt cx="5851800" cy="10944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2615400" y="3516480"/>
                  <a:ext cx="5664600" cy="10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供一组用于数据库导航的按钮，可以修改、插入、删除记录以及刷新数据的显示，包含的按钮在设计阶段可以进行选择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521800" y="3516480"/>
                  <a:ext cx="5851800" cy="109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768240" y="4611600"/>
                <a:ext cx="1753200" cy="889920"/>
                <a:chOff x="768240" y="4611600"/>
                <a:chExt cx="1753200" cy="8899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862200" y="4611600"/>
                  <a:ext cx="156492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Tex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68240" y="4611600"/>
                  <a:ext cx="17532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521800" y="4611600"/>
                <a:ext cx="5851800" cy="889920"/>
                <a:chOff x="2521800" y="4611600"/>
                <a:chExt cx="5851800" cy="8899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2615400" y="4611600"/>
                  <a:ext cx="566460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表中当前记录的字段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521800" y="4611600"/>
                  <a:ext cx="58518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768240" y="5501880"/>
                <a:ext cx="1753200" cy="890280"/>
                <a:chOff x="768240" y="5501880"/>
                <a:chExt cx="1753200" cy="8902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862200" y="5501880"/>
                  <a:ext cx="1564920" cy="8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68240" y="5501880"/>
                  <a:ext cx="1753200" cy="8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2521800" y="5501880"/>
                <a:ext cx="5851800" cy="890280"/>
                <a:chOff x="2521800" y="5501880"/>
                <a:chExt cx="5851800" cy="8902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615400" y="5501880"/>
                  <a:ext cx="5664600" cy="8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和编辑数据库表中当前记录指定的字段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521800" y="5501880"/>
                  <a:ext cx="5851800" cy="8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" name=""/>
            <p:cNvSpPr/>
            <p:nvPr/>
          </p:nvSpPr>
          <p:spPr>
            <a:xfrm>
              <a:off x="762120" y="1523880"/>
              <a:ext cx="7619400" cy="4876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762120" y="1066680"/>
            <a:ext cx="7695720" cy="5105160"/>
            <a:chOff x="762120" y="1066680"/>
            <a:chExt cx="7695720" cy="5105160"/>
          </a:xfrm>
        </p:grpSpPr>
        <p:grpSp>
          <p:nvGrpSpPr>
            <p:cNvPr id="654" name=""/>
            <p:cNvGrpSpPr/>
            <p:nvPr/>
          </p:nvGrpSpPr>
          <p:grpSpPr>
            <a:xfrm>
              <a:off x="768600" y="1074960"/>
              <a:ext cx="7681680" cy="5087160"/>
              <a:chOff x="768600" y="1074960"/>
              <a:chExt cx="7681680" cy="508716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768600" y="1074960"/>
                <a:ext cx="1770840" cy="1333440"/>
                <a:chOff x="768600" y="1074960"/>
                <a:chExt cx="1770840" cy="13334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863640" y="1074960"/>
                  <a:ext cx="158076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Mem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68600" y="1074960"/>
                  <a:ext cx="177084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2539800" y="1074960"/>
                <a:ext cx="5910480" cy="1333440"/>
                <a:chOff x="2539800" y="1074960"/>
                <a:chExt cx="5910480" cy="13334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2634120" y="1074960"/>
                  <a:ext cx="572112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表中的备注型字段，备注型字段中可以包含多行字符甚至可以是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LOB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（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大二进制对象）数据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539800" y="1074960"/>
                  <a:ext cx="591048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768600" y="2408760"/>
                <a:ext cx="1770840" cy="1084680"/>
                <a:chOff x="768600" y="2408760"/>
                <a:chExt cx="1770840" cy="1084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63640" y="2408760"/>
                  <a:ext cx="158076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Imag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68600" y="2408760"/>
                  <a:ext cx="177084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2539800" y="2408760"/>
                <a:ext cx="5910480" cy="1084680"/>
                <a:chOff x="2539800" y="2408760"/>
                <a:chExt cx="5910480" cy="10846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2634120" y="2408760"/>
                  <a:ext cx="572112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表中的图形字段和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LOB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数据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39800" y="2408760"/>
                  <a:ext cx="591048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68600" y="3493800"/>
                <a:ext cx="1770840" cy="1333440"/>
                <a:chOff x="768600" y="3493800"/>
                <a:chExt cx="1770840" cy="13334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63640" y="3493800"/>
                  <a:ext cx="158076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List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68600" y="3493800"/>
                  <a:ext cx="177084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2539800" y="3493800"/>
                <a:ext cx="5910480" cy="1333440"/>
                <a:chOff x="2539800" y="3493800"/>
                <a:chExt cx="5910480" cy="13334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2634120" y="3493800"/>
                  <a:ext cx="572112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编辑修改表中当前记录的某个字段时，该控件是一个包含多个选择项的列表框，用户可以从中选择一个项做为字段的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539800" y="3493800"/>
                  <a:ext cx="591048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68600" y="4827960"/>
                <a:ext cx="1770840" cy="1334160"/>
                <a:chOff x="768600" y="4827960"/>
                <a:chExt cx="1770840" cy="133416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863640" y="4827960"/>
                  <a:ext cx="1580760" cy="13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ombo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68600" y="4827960"/>
                  <a:ext cx="1770840" cy="133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2539800" y="4827960"/>
                <a:ext cx="5910480" cy="1334160"/>
                <a:chOff x="2539800" y="4827960"/>
                <a:chExt cx="5910480" cy="13341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2634120" y="4827960"/>
                  <a:ext cx="5721120" cy="13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显示一个下拉列表框，可以直接在其编辑框中输入字段值，或者从下拉列表框中选择一个字段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539800" y="4827960"/>
                  <a:ext cx="5910480" cy="133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9" name=""/>
            <p:cNvSpPr/>
            <p:nvPr/>
          </p:nvSpPr>
          <p:spPr>
            <a:xfrm>
              <a:off x="762120" y="1066680"/>
              <a:ext cx="7695720" cy="510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457200" y="762120"/>
            <a:ext cx="8305560" cy="5257440"/>
            <a:chOff x="457200" y="762120"/>
            <a:chExt cx="8305560" cy="5257440"/>
          </a:xfrm>
        </p:grpSpPr>
        <p:grpSp>
          <p:nvGrpSpPr>
            <p:cNvPr id="681" name=""/>
            <p:cNvGrpSpPr/>
            <p:nvPr/>
          </p:nvGrpSpPr>
          <p:grpSpPr>
            <a:xfrm>
              <a:off x="464040" y="767160"/>
              <a:ext cx="8289720" cy="5245200"/>
              <a:chOff x="464040" y="767160"/>
              <a:chExt cx="8289720" cy="524520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464040" y="767160"/>
                <a:ext cx="1910880" cy="838440"/>
                <a:chOff x="464040" y="767160"/>
                <a:chExt cx="1910880" cy="8384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566640" y="767160"/>
                  <a:ext cx="170568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heck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64040" y="767160"/>
                  <a:ext cx="19108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375280" y="767160"/>
                <a:ext cx="6378480" cy="838440"/>
                <a:chOff x="2375280" y="767160"/>
                <a:chExt cx="6378480" cy="8384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477160" y="767160"/>
                  <a:ext cx="617436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显示一个复选框，当指定字段值与该复选框的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ValueChecked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属性值相匹配时，该复选框被选中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375280" y="767160"/>
                  <a:ext cx="63784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464040" y="1605960"/>
                <a:ext cx="1910880" cy="682200"/>
                <a:chOff x="464040" y="1605960"/>
                <a:chExt cx="1910880" cy="68220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66640" y="1605960"/>
                  <a:ext cx="1705680" cy="6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RadioGrou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64040" y="1605960"/>
                  <a:ext cx="1910880" cy="6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375280" y="1605960"/>
                <a:ext cx="6378480" cy="682200"/>
                <a:chOff x="2375280" y="1605960"/>
                <a:chExt cx="6378480" cy="6822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2477160" y="1605960"/>
                  <a:ext cx="6174360" cy="6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为用户提供一组单选按钮，用户只能从中选择一个可选项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375280" y="1605960"/>
                  <a:ext cx="6378480" cy="6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64040" y="2288520"/>
                <a:ext cx="1910880" cy="838440"/>
                <a:chOff x="464040" y="2288520"/>
                <a:chExt cx="1910880" cy="838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66640" y="2288520"/>
                  <a:ext cx="170568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LookupList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64040" y="2288520"/>
                  <a:ext cx="19108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2375280" y="2288520"/>
                <a:ext cx="6378480" cy="838440"/>
                <a:chOff x="2375280" y="2288520"/>
                <a:chExt cx="6378480" cy="8384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2477160" y="2288520"/>
                  <a:ext cx="617436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显示一个列表框，用户可通过它编辑修改数据表中的字段，列表框中的值可从其他数据表中查阅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375280" y="2288520"/>
                  <a:ext cx="63784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464040" y="3127320"/>
                <a:ext cx="1910880" cy="838800"/>
                <a:chOff x="464040" y="3127320"/>
                <a:chExt cx="1910880" cy="8388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66640" y="3127320"/>
                  <a:ext cx="170568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LookupCombo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64040" y="3127320"/>
                  <a:ext cx="1910880" cy="83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375280" y="3127320"/>
                <a:ext cx="6378480" cy="838800"/>
                <a:chOff x="2375280" y="3127320"/>
                <a:chExt cx="6378480" cy="8388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477160" y="3127320"/>
                  <a:ext cx="617436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该控件结合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Edit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控件和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omboBox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控件的功能，下拉列表框中的可选项可从其他数据库表中读取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375280" y="3127320"/>
                  <a:ext cx="6378480" cy="83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64040" y="3966840"/>
                <a:ext cx="1910880" cy="681480"/>
                <a:chOff x="464040" y="3966840"/>
                <a:chExt cx="1910880" cy="6814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66640" y="3966840"/>
                  <a:ext cx="17056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Rich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64040" y="3966840"/>
                  <a:ext cx="19108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2375280" y="3966840"/>
                <a:ext cx="6378480" cy="681480"/>
                <a:chOff x="2375280" y="3966840"/>
                <a:chExt cx="6378480" cy="6814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477160" y="3966840"/>
                  <a:ext cx="617436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供一个多行编辑框，显示编辑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ich Text Memo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字段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375280" y="3966840"/>
                  <a:ext cx="63784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64040" y="4649040"/>
                <a:ext cx="1910880" cy="681480"/>
                <a:chOff x="464040" y="4649040"/>
                <a:chExt cx="1910880" cy="6814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66640" y="4649040"/>
                  <a:ext cx="17056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trlGri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64040" y="4649040"/>
                  <a:ext cx="19108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375280" y="4649040"/>
                <a:ext cx="6378480" cy="681480"/>
                <a:chOff x="2375280" y="4649040"/>
                <a:chExt cx="6378480" cy="6814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477160" y="4649040"/>
                  <a:ext cx="617436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可以根据用户指定的格式用二维网格显示所有数据表中的字段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375280" y="4649040"/>
                  <a:ext cx="63784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64040" y="5330880"/>
                <a:ext cx="1910880" cy="681480"/>
                <a:chOff x="464040" y="5330880"/>
                <a:chExt cx="1910880" cy="68148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566640" y="5330880"/>
                  <a:ext cx="17056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har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64040" y="5330880"/>
                  <a:ext cx="19108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375280" y="5330880"/>
                <a:ext cx="6378480" cy="681480"/>
                <a:chOff x="2375280" y="5330880"/>
                <a:chExt cx="6378480" cy="6814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2477160" y="5330880"/>
                  <a:ext cx="617436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中有关数据汇总的图形和表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375280" y="5330880"/>
                  <a:ext cx="63784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4" name=""/>
            <p:cNvSpPr/>
            <p:nvPr/>
          </p:nvSpPr>
          <p:spPr>
            <a:xfrm>
              <a:off x="457200" y="762120"/>
              <a:ext cx="8305560" cy="5257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2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Grid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ptio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ragMo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falultDrawing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lum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8124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3395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90720" y="5410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40524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214880" cy="3165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819520" y="5257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字段编辑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837720" y="83808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事件及应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676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Gr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中的主要事件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380880" y="2438280"/>
            <a:ext cx="8305560" cy="3352680"/>
            <a:chOff x="380880" y="2438280"/>
            <a:chExt cx="8305560" cy="3352680"/>
          </a:xfrm>
        </p:grpSpPr>
        <p:grpSp>
          <p:nvGrpSpPr>
            <p:cNvPr id="734" name=""/>
            <p:cNvGrpSpPr/>
            <p:nvPr/>
          </p:nvGrpSpPr>
          <p:grpSpPr>
            <a:xfrm>
              <a:off x="387720" y="2443320"/>
              <a:ext cx="8290440" cy="3341520"/>
              <a:chOff x="387720" y="2443320"/>
              <a:chExt cx="8290440" cy="334152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387720" y="2443320"/>
                <a:ext cx="1901880" cy="667800"/>
                <a:chOff x="387720" y="2443320"/>
                <a:chExt cx="1901880" cy="6678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89960" y="244332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事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7720" y="244332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2289960" y="2443320"/>
                <a:ext cx="6388200" cy="667800"/>
                <a:chOff x="2289960" y="2443320"/>
                <a:chExt cx="6388200" cy="667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2392200" y="244332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目的用途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289960" y="244332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87720" y="3111480"/>
                <a:ext cx="1901880" cy="667800"/>
                <a:chOff x="387720" y="3111480"/>
                <a:chExt cx="1901880" cy="667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489960" y="311148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ColEnte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7720" y="311148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289960" y="3111480"/>
                <a:ext cx="6388200" cy="667800"/>
                <a:chOff x="2289960" y="3111480"/>
                <a:chExt cx="6388200" cy="667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392200" y="311148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进入网格各列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289960" y="311148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87720" y="3780000"/>
                <a:ext cx="1901880" cy="668160"/>
                <a:chOff x="387720" y="3780000"/>
                <a:chExt cx="1901880" cy="66816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89960" y="3780000"/>
                  <a:ext cx="169776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ColEx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87720" y="3780000"/>
                  <a:ext cx="1901880" cy="66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2289960" y="3780000"/>
                <a:ext cx="6388200" cy="668160"/>
                <a:chOff x="2289960" y="3780000"/>
                <a:chExt cx="6388200" cy="66816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2392200" y="3780000"/>
                  <a:ext cx="618408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离开网格各列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289960" y="3780000"/>
                  <a:ext cx="6388200" cy="66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387720" y="4448520"/>
                <a:ext cx="1901880" cy="667800"/>
                <a:chOff x="387720" y="4448520"/>
                <a:chExt cx="1901880" cy="6678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489960" y="444852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blClick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87720" y="444852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2289960" y="4448520"/>
                <a:ext cx="6388200" cy="667800"/>
                <a:chOff x="2289960" y="4448520"/>
                <a:chExt cx="6388200" cy="6678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2392200" y="444852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双击鼠标左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289960" y="444852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387720" y="5117040"/>
                <a:ext cx="1901880" cy="667800"/>
                <a:chOff x="387720" y="5117040"/>
                <a:chExt cx="1901880" cy="66780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89960" y="511704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ragDro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87720" y="511704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2289960" y="5117040"/>
                <a:ext cx="6388200" cy="667800"/>
                <a:chOff x="2289960" y="5117040"/>
                <a:chExt cx="6388200" cy="6678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2392200" y="511704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用鼠标进行拖放操作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89960" y="511704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"/>
            <p:cNvSpPr/>
            <p:nvPr/>
          </p:nvSpPr>
          <p:spPr>
            <a:xfrm>
              <a:off x="380880" y="2438280"/>
              <a:ext cx="8305560" cy="3352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533520" y="1049400"/>
            <a:ext cx="8229240" cy="5351040"/>
            <a:chOff x="533520" y="1049400"/>
            <a:chExt cx="8229240" cy="5351040"/>
          </a:xfrm>
        </p:grpSpPr>
        <p:grpSp>
          <p:nvGrpSpPr>
            <p:cNvPr id="767" name=""/>
            <p:cNvGrpSpPr/>
            <p:nvPr/>
          </p:nvGrpSpPr>
          <p:grpSpPr>
            <a:xfrm>
              <a:off x="540360" y="1054440"/>
              <a:ext cx="8214120" cy="5339880"/>
              <a:chOff x="540360" y="1054440"/>
              <a:chExt cx="8214120" cy="5339880"/>
            </a:xfrm>
          </p:grpSpPr>
          <p:grpSp>
            <p:nvGrpSpPr>
              <p:cNvPr id="768" name=""/>
              <p:cNvGrpSpPr/>
              <p:nvPr/>
            </p:nvGrpSpPr>
            <p:grpSpPr>
              <a:xfrm>
                <a:off x="540360" y="1054440"/>
                <a:ext cx="1884240" cy="667080"/>
                <a:chOff x="540360" y="1054440"/>
                <a:chExt cx="1884240" cy="6670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1520" y="105444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ragOve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40360" y="105444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424960" y="1054440"/>
                <a:ext cx="6329520" cy="667080"/>
                <a:chOff x="2424960" y="1054440"/>
                <a:chExt cx="6329520" cy="6670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526120" y="105444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用鼠标拖动网格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424960" y="105444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540360" y="1721880"/>
                <a:ext cx="1884240" cy="667080"/>
                <a:chOff x="540360" y="1721880"/>
                <a:chExt cx="1884240" cy="6670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641520" y="172188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rawDataCel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40360" y="172188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2424960" y="1721880"/>
                <a:ext cx="6329520" cy="667080"/>
                <a:chOff x="2424960" y="1721880"/>
                <a:chExt cx="6329520" cy="66708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2526120" y="172188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定制绘制网格中各网格单元，当向网格中填充数据时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424960" y="172188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40360" y="2389320"/>
                <a:ext cx="1884240" cy="667440"/>
                <a:chOff x="540360" y="2389320"/>
                <a:chExt cx="1884240" cy="6674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641520" y="2389320"/>
                  <a:ext cx="168192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EndDrag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0360" y="2389320"/>
                  <a:ext cx="188424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2424960" y="2389320"/>
                <a:ext cx="6329520" cy="667440"/>
                <a:chOff x="2424960" y="2389320"/>
                <a:chExt cx="6329520" cy="6674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2526120" y="2389320"/>
                  <a:ext cx="612720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停止拖动网格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424960" y="2389320"/>
                  <a:ext cx="632952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540360" y="3057120"/>
                <a:ext cx="1884240" cy="667080"/>
                <a:chOff x="540360" y="3057120"/>
                <a:chExt cx="1884240" cy="66708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641520" y="305712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Ente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0360" y="305712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424960" y="3057120"/>
                <a:ext cx="6329520" cy="667080"/>
                <a:chOff x="2424960" y="3057120"/>
                <a:chExt cx="6329520" cy="6670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526120" y="305712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网格获得焦点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424960" y="305712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540360" y="3724560"/>
                <a:ext cx="1884240" cy="667080"/>
                <a:chOff x="540360" y="3724560"/>
                <a:chExt cx="1884240" cy="6670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41520" y="372456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Ex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40360" y="372456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424960" y="3724560"/>
                <a:ext cx="6329520" cy="667080"/>
                <a:chOff x="2424960" y="3724560"/>
                <a:chExt cx="6329520" cy="66708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526120" y="372456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网格失去焦点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424960" y="372456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540360" y="4392000"/>
                <a:ext cx="1884240" cy="667080"/>
                <a:chOff x="540360" y="4392000"/>
                <a:chExt cx="1884240" cy="6670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1520" y="439200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KeyDow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40360" y="439200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24960" y="4392000"/>
                <a:ext cx="6329520" cy="667080"/>
                <a:chOff x="2424960" y="4392000"/>
                <a:chExt cx="6329520" cy="667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526120" y="439200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按下任何键或组合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424960" y="439200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540360" y="5059440"/>
                <a:ext cx="1884240" cy="667440"/>
                <a:chOff x="540360" y="5059440"/>
                <a:chExt cx="1884240" cy="66744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41520" y="5059440"/>
                  <a:ext cx="168192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KeyPres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40360" y="5059440"/>
                  <a:ext cx="188424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2424960" y="5059440"/>
                <a:ext cx="6329520" cy="667440"/>
                <a:chOff x="2424960" y="5059440"/>
                <a:chExt cx="6329520" cy="6674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2526120" y="5059440"/>
                  <a:ext cx="612720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按了任何一个数字键或字母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424960" y="5059440"/>
                  <a:ext cx="632952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40360" y="5727240"/>
                <a:ext cx="1884240" cy="667080"/>
                <a:chOff x="540360" y="5727240"/>
                <a:chExt cx="1884240" cy="66708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641520" y="572724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KeyU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40360" y="572724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2424960" y="5727240"/>
                <a:ext cx="6329520" cy="667080"/>
                <a:chOff x="2424960" y="5727240"/>
                <a:chExt cx="6329520" cy="66708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2526120" y="572724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释放任何被按下的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424960" y="572724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"/>
            <p:cNvSpPr/>
            <p:nvPr/>
          </p:nvSpPr>
          <p:spPr>
            <a:xfrm>
              <a:off x="533520" y="1049400"/>
              <a:ext cx="8229240" cy="5351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73852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81600" cy="2967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905120" y="51055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51460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的主要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85800" y="1828800"/>
            <a:ext cx="7772040" cy="4114800"/>
            <a:chOff x="685800" y="1828800"/>
            <a:chExt cx="7772040" cy="4114800"/>
          </a:xfrm>
        </p:grpSpPr>
        <p:grpSp>
          <p:nvGrpSpPr>
            <p:cNvPr id="822" name=""/>
            <p:cNvGrpSpPr/>
            <p:nvPr/>
          </p:nvGrpSpPr>
          <p:grpSpPr>
            <a:xfrm>
              <a:off x="691920" y="1832760"/>
              <a:ext cx="7758720" cy="4106160"/>
              <a:chOff x="691920" y="1832760"/>
              <a:chExt cx="7758720" cy="4106160"/>
            </a:xfrm>
          </p:grpSpPr>
          <p:grpSp>
            <p:nvGrpSpPr>
              <p:cNvPr id="823" name=""/>
              <p:cNvGrpSpPr/>
              <p:nvPr/>
            </p:nvGrpSpPr>
            <p:grpSpPr>
              <a:xfrm>
                <a:off x="691920" y="1832760"/>
                <a:ext cx="2190960" cy="513000"/>
                <a:chOff x="691920" y="1832760"/>
                <a:chExt cx="2190960" cy="51300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785160" y="183276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91920" y="183276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2883240" y="1832760"/>
                <a:ext cx="3011400" cy="513000"/>
                <a:chOff x="2883240" y="1832760"/>
                <a:chExt cx="3011400" cy="5130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2976120" y="183276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883240" y="183276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5895360" y="1832760"/>
                <a:ext cx="2555280" cy="513000"/>
                <a:chOff x="5895360" y="1832760"/>
                <a:chExt cx="2555280" cy="5130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5988240" y="183276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895360" y="183276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691920" y="2345760"/>
                <a:ext cx="2190960" cy="1539720"/>
                <a:chOff x="691920" y="2345760"/>
                <a:chExt cx="2190960" cy="15397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785160" y="2345760"/>
                  <a:ext cx="2004120" cy="15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1920" y="2345760"/>
                  <a:ext cx="2190960" cy="15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2883240" y="2345760"/>
                <a:ext cx="3011400" cy="513000"/>
                <a:chOff x="2883240" y="2345760"/>
                <a:chExt cx="3011400" cy="5130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2976120" y="234576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883240" y="234576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895360" y="2345760"/>
                <a:ext cx="2555280" cy="513000"/>
                <a:chOff x="5895360" y="2345760"/>
                <a:chExt cx="2555280" cy="5130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988240" y="234576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895360" y="234576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2883240" y="2859120"/>
                <a:ext cx="3011400" cy="513360"/>
                <a:chOff x="2883240" y="2859120"/>
                <a:chExt cx="3011400" cy="5133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2976120" y="2859120"/>
                  <a:ext cx="28249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883240" y="2859120"/>
                  <a:ext cx="30114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5895360" y="2859120"/>
                <a:ext cx="2555280" cy="513360"/>
                <a:chOff x="5895360" y="2859120"/>
                <a:chExt cx="2555280" cy="51336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5988240" y="2859120"/>
                  <a:ext cx="23695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895360" y="2859120"/>
                  <a:ext cx="255528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883240" y="3372480"/>
                <a:ext cx="3011400" cy="513000"/>
                <a:chOff x="2883240" y="3372480"/>
                <a:chExt cx="3011400" cy="5130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2976120" y="337248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883240" y="337248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895360" y="3372480"/>
                <a:ext cx="2555280" cy="513000"/>
                <a:chOff x="5895360" y="3372480"/>
                <a:chExt cx="2555280" cy="51300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5988240" y="337248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895360" y="337248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691920" y="3885840"/>
                <a:ext cx="2190960" cy="513000"/>
                <a:chOff x="691920" y="3885840"/>
                <a:chExt cx="2190960" cy="5130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785160" y="388584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91920" y="388584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2883240" y="3885840"/>
                <a:ext cx="3011400" cy="513000"/>
                <a:chOff x="2883240" y="3885840"/>
                <a:chExt cx="3011400" cy="51300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2976120" y="388584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883240" y="388584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5895360" y="3885840"/>
                <a:ext cx="2555280" cy="513000"/>
                <a:chOff x="5895360" y="3885840"/>
                <a:chExt cx="2555280" cy="513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5988240" y="388584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895360" y="388584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691920" y="4399200"/>
                <a:ext cx="2190960" cy="513000"/>
                <a:chOff x="691920" y="4399200"/>
                <a:chExt cx="2190960" cy="5130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85160" y="439920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91920" y="439920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883240" y="4399200"/>
                <a:ext cx="3011400" cy="513000"/>
                <a:chOff x="2883240" y="4399200"/>
                <a:chExt cx="3011400" cy="5130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2976120" y="439920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83240" y="439920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5895360" y="4399200"/>
                <a:ext cx="2555280" cy="513000"/>
                <a:chOff x="5895360" y="4399200"/>
                <a:chExt cx="2555280" cy="5130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5988240" y="439920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895360" y="439920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691920" y="4912200"/>
                <a:ext cx="2190960" cy="513360"/>
                <a:chOff x="691920" y="4912200"/>
                <a:chExt cx="2190960" cy="51336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785160" y="4912200"/>
                  <a:ext cx="20041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91920" y="4912200"/>
                  <a:ext cx="219096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2883240" y="4912200"/>
                <a:ext cx="3011400" cy="513360"/>
                <a:chOff x="2883240" y="4912200"/>
                <a:chExt cx="3011400" cy="51336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2976120" y="4912200"/>
                  <a:ext cx="28249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883240" y="4912200"/>
                  <a:ext cx="30114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5895360" y="4912200"/>
                <a:ext cx="2555280" cy="513360"/>
                <a:chOff x="5895360" y="4912200"/>
                <a:chExt cx="2555280" cy="51336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5988240" y="4912200"/>
                  <a:ext cx="23695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895360" y="4912200"/>
                  <a:ext cx="255528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691920" y="5425920"/>
                <a:ext cx="2190960" cy="513000"/>
                <a:chOff x="691920" y="5425920"/>
                <a:chExt cx="2190960" cy="5130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85160" y="542592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istbox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91920" y="542592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883240" y="5425920"/>
                <a:ext cx="3011400" cy="513000"/>
                <a:chOff x="2883240" y="5425920"/>
                <a:chExt cx="3011400" cy="5130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2976120" y="542592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Visibl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83240" y="542592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895360" y="5425920"/>
                <a:ext cx="2555280" cy="513000"/>
                <a:chOff x="5895360" y="5425920"/>
                <a:chExt cx="2555280" cy="51300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988240" y="542592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895360" y="542592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9" name=""/>
            <p:cNvSpPr/>
            <p:nvPr/>
          </p:nvSpPr>
          <p:spPr>
            <a:xfrm>
              <a:off x="685800" y="1828800"/>
              <a:ext cx="77720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Navigator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isibleButto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howHi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Hint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94" name=""/>
          <p:cNvSpPr/>
          <p:nvPr/>
        </p:nvSpPr>
        <p:spPr>
          <a:xfrm>
            <a:off x="25192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014880" cy="11718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27432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Navig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828800" y="990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Navigator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控件中的控制按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838080" y="1828800"/>
            <a:ext cx="7543440" cy="3885840"/>
            <a:chOff x="838080" y="1828800"/>
            <a:chExt cx="7543440" cy="3885840"/>
          </a:xfrm>
        </p:grpSpPr>
        <p:grpSp>
          <p:nvGrpSpPr>
            <p:cNvPr id="899" name=""/>
            <p:cNvGrpSpPr/>
            <p:nvPr/>
          </p:nvGrpSpPr>
          <p:grpSpPr>
            <a:xfrm>
              <a:off x="844200" y="1833480"/>
              <a:ext cx="7529040" cy="3875400"/>
              <a:chOff x="844200" y="1833480"/>
              <a:chExt cx="7529040" cy="387540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844200" y="1833480"/>
                <a:ext cx="1502640" cy="621360"/>
                <a:chOff x="844200" y="1833480"/>
                <a:chExt cx="1502640" cy="62136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937080" y="183348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按钮名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44200" y="183348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347200" y="1833480"/>
                <a:ext cx="6026040" cy="621360"/>
                <a:chOff x="2347200" y="1833480"/>
                <a:chExt cx="6026040" cy="62136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440080" y="183348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347200" y="183348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844200" y="2455200"/>
                <a:ext cx="1502640" cy="621360"/>
                <a:chOff x="844200" y="2455200"/>
                <a:chExt cx="1502640" cy="6213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937080" y="245520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ir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44200" y="245520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347200" y="2455200"/>
                <a:ext cx="6026040" cy="621360"/>
                <a:chOff x="2347200" y="2455200"/>
                <a:chExt cx="6026040" cy="62136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440080" y="245520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当前记录指针移到数据库表中第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347200" y="245520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844200" y="3077280"/>
                <a:ext cx="1502640" cy="621720"/>
                <a:chOff x="844200" y="3077280"/>
                <a:chExt cx="1502640" cy="6217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937080" y="3077280"/>
                  <a:ext cx="131724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ri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44200" y="3077280"/>
                  <a:ext cx="15026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2347200" y="3077280"/>
                <a:ext cx="6026040" cy="621720"/>
                <a:chOff x="2347200" y="3077280"/>
                <a:chExt cx="6026040" cy="62172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2440080" y="3077280"/>
                  <a:ext cx="584028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记录指针移到当前记录的前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347200" y="3077280"/>
                  <a:ext cx="6026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844200" y="3699720"/>
                <a:ext cx="1502640" cy="621360"/>
                <a:chOff x="844200" y="3699720"/>
                <a:chExt cx="1502640" cy="62136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937080" y="369972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ex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4200" y="369972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2347200" y="3699720"/>
                <a:ext cx="6026040" cy="621360"/>
                <a:chOff x="2347200" y="3699720"/>
                <a:chExt cx="6026040" cy="62136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440080" y="369972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记录指针移到当前记录的后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347200" y="369972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844200" y="4321800"/>
                <a:ext cx="1502640" cy="621360"/>
                <a:chOff x="844200" y="4321800"/>
                <a:chExt cx="1502640" cy="62136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937080" y="432180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44200" y="432180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2347200" y="4321800"/>
                <a:ext cx="6026040" cy="621360"/>
                <a:chOff x="2347200" y="4321800"/>
                <a:chExt cx="6026040" cy="62136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2440080" y="432180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当前记录指针移到数据库表中最后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347200" y="432180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844200" y="4943880"/>
                <a:ext cx="1502640" cy="765000"/>
                <a:chOff x="844200" y="4943880"/>
                <a:chExt cx="1502640" cy="76500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937080" y="4943880"/>
                  <a:ext cx="1317240" cy="76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844200" y="4943880"/>
                  <a:ext cx="1502640" cy="76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347200" y="4943880"/>
                <a:ext cx="6026040" cy="765000"/>
                <a:chOff x="2347200" y="4943880"/>
                <a:chExt cx="6026040" cy="76500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440080" y="4943880"/>
                  <a:ext cx="5840280" cy="76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调用数据集控件的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方法，在当前记录的前面插入一条新记录，并将数据集控件设置为插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347200" y="4943880"/>
                  <a:ext cx="6026040" cy="76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6" name=""/>
            <p:cNvSpPr/>
            <p:nvPr/>
          </p:nvSpPr>
          <p:spPr>
            <a:xfrm>
              <a:off x="838080" y="1828800"/>
              <a:ext cx="7543440" cy="3885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457200" y="838080"/>
            <a:ext cx="8305560" cy="4724280"/>
            <a:chOff x="457200" y="838080"/>
            <a:chExt cx="8305560" cy="4724280"/>
          </a:xfrm>
        </p:grpSpPr>
        <p:grpSp>
          <p:nvGrpSpPr>
            <p:cNvPr id="938" name=""/>
            <p:cNvGrpSpPr/>
            <p:nvPr/>
          </p:nvGrpSpPr>
          <p:grpSpPr>
            <a:xfrm>
              <a:off x="464040" y="843480"/>
              <a:ext cx="8290440" cy="4712040"/>
              <a:chOff x="464040" y="843480"/>
              <a:chExt cx="8290440" cy="471204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464040" y="843480"/>
                <a:ext cx="1654920" cy="729000"/>
                <a:chOff x="464040" y="843480"/>
                <a:chExt cx="1654920" cy="72900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66280" y="84348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按钮名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64040" y="84348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2119320" y="843480"/>
                <a:ext cx="6635160" cy="729000"/>
                <a:chOff x="2119320" y="843480"/>
                <a:chExt cx="6635160" cy="72900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2221560" y="84348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119320" y="84348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64040" y="1572840"/>
                <a:ext cx="1654920" cy="897120"/>
                <a:chOff x="464040" y="1572840"/>
                <a:chExt cx="1654920" cy="8971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66280" y="1572840"/>
                  <a:ext cx="145044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elet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4040" y="1572840"/>
                  <a:ext cx="165492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2119320" y="1572840"/>
                <a:ext cx="6635160" cy="897120"/>
                <a:chOff x="2119320" y="1572840"/>
                <a:chExt cx="6635160" cy="8971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2221560" y="1572840"/>
                  <a:ext cx="64306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删除当前记录，如果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Navigator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控件的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nfirmDelete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属性设置为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，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则会弹出删除确认对话框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119320" y="1572840"/>
                  <a:ext cx="663516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64040" y="2470320"/>
                <a:ext cx="1654920" cy="729000"/>
                <a:chOff x="464040" y="2470320"/>
                <a:chExt cx="1654920" cy="7290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66280" y="247032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64040" y="247032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2119320" y="2470320"/>
                <a:ext cx="6635160" cy="729000"/>
                <a:chOff x="2119320" y="2470320"/>
                <a:chExt cx="6635160" cy="72900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2221560" y="247032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数据集控件设置为编辑状态，以便用户修改当前的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119320" y="247032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64040" y="3199680"/>
                <a:ext cx="1654920" cy="729000"/>
                <a:chOff x="464040" y="3199680"/>
                <a:chExt cx="1654920" cy="72900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66280" y="319968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o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64040" y="319968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119320" y="3199680"/>
                <a:ext cx="6635160" cy="729000"/>
                <a:chOff x="2119320" y="3199680"/>
                <a:chExt cx="6635160" cy="72900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2221560" y="319968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交（保存）对当前记录的修改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119320" y="319968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64040" y="3929040"/>
                <a:ext cx="1654920" cy="729000"/>
                <a:chOff x="464040" y="3929040"/>
                <a:chExt cx="1654920" cy="72900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566280" y="392904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nce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64040" y="392904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2119320" y="3929040"/>
                <a:ext cx="6635160" cy="729000"/>
                <a:chOff x="2119320" y="3929040"/>
                <a:chExt cx="6635160" cy="7290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2221560" y="392904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取消对当前记录的修改，并将数据集控件置为浏览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19320" y="392904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4040" y="4658400"/>
                <a:ext cx="1654920" cy="897120"/>
                <a:chOff x="464040" y="4658400"/>
                <a:chExt cx="1654920" cy="897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566280" y="4658400"/>
                  <a:ext cx="145044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fresh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64040" y="4658400"/>
                  <a:ext cx="165492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2119320" y="4658400"/>
                <a:ext cx="6635160" cy="897120"/>
                <a:chOff x="2119320" y="4658400"/>
                <a:chExt cx="6635160" cy="897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2221560" y="4658400"/>
                  <a:ext cx="64306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清除数据浏览控件的显示缓冲区，并用与其相连的数据集控件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Table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或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Query)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中的记录刷新显示缓冲区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119320" y="4658400"/>
                  <a:ext cx="663516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5" name=""/>
            <p:cNvSpPr/>
            <p:nvPr/>
          </p:nvSpPr>
          <p:spPr>
            <a:xfrm>
              <a:off x="457200" y="838080"/>
              <a:ext cx="8305560" cy="4724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一个重要的事件是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，它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某个按钮被单击并执行相应的操作之后触发。基本格式如下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Courier New"/>
                <a:ea typeface="Courier New"/>
              </a:rPr>
              <a:t>procedure TForm1.DBNavigator1Click(Sender: TObject; Button: TNavigateBtn);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7668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181840" cy="259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76520" y="49672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库驱动程序名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4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Text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应用程序中一般要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Fiel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显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ustomer.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表中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mpan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字段信息，可以用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窗体来实现。主要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958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705560" cy="32130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2286000" y="5410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22096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0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图中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914400" y="1752480"/>
            <a:ext cx="7543440" cy="4114800"/>
            <a:chOff x="914400" y="1752480"/>
            <a:chExt cx="7543440" cy="4114800"/>
          </a:xfrm>
        </p:grpSpPr>
        <p:grpSp>
          <p:nvGrpSpPr>
            <p:cNvPr id="985" name=""/>
            <p:cNvGrpSpPr/>
            <p:nvPr/>
          </p:nvGrpSpPr>
          <p:grpSpPr>
            <a:xfrm>
              <a:off x="920520" y="1756800"/>
              <a:ext cx="7530480" cy="4105080"/>
              <a:chOff x="920520" y="1756800"/>
              <a:chExt cx="7530480" cy="410508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920520" y="1756800"/>
                <a:ext cx="2215080" cy="586080"/>
                <a:chOff x="920520" y="1756800"/>
                <a:chExt cx="2215080" cy="586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1011240" y="1756800"/>
                  <a:ext cx="203364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920520" y="1756800"/>
                  <a:ext cx="221508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135960" y="1756800"/>
                <a:ext cx="2922840" cy="586080"/>
                <a:chOff x="3135960" y="1756800"/>
                <a:chExt cx="2922840" cy="586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226680" y="175680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135960" y="175680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059160" y="1756800"/>
                <a:ext cx="2391840" cy="586080"/>
                <a:chOff x="6059160" y="1756800"/>
                <a:chExt cx="2391840" cy="586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149160" y="175680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059160" y="175680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920520" y="2342880"/>
                <a:ext cx="2215080" cy="1759320"/>
                <a:chOff x="920520" y="2342880"/>
                <a:chExt cx="2215080" cy="17593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1011240" y="2342880"/>
                  <a:ext cx="2033640" cy="17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920520" y="2342880"/>
                  <a:ext cx="2215080" cy="17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135960" y="2342880"/>
                <a:ext cx="2922840" cy="586080"/>
                <a:chOff x="3135960" y="2342880"/>
                <a:chExt cx="2922840" cy="586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3226680" y="234288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135960" y="234288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059160" y="2342880"/>
                <a:ext cx="2391840" cy="586080"/>
                <a:chOff x="6059160" y="2342880"/>
                <a:chExt cx="2391840" cy="586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149160" y="234288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059160" y="234288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135960" y="2929320"/>
                <a:ext cx="2922840" cy="586440"/>
                <a:chOff x="3135960" y="2929320"/>
                <a:chExt cx="2922840" cy="58644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226680" y="2929320"/>
                  <a:ext cx="27414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135960" y="2929320"/>
                  <a:ext cx="2922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059160" y="2929320"/>
                <a:ext cx="2391840" cy="586440"/>
                <a:chOff x="6059160" y="2929320"/>
                <a:chExt cx="2391840" cy="58644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149160" y="2929320"/>
                  <a:ext cx="22114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059160" y="2929320"/>
                  <a:ext cx="2391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3135960" y="3516120"/>
                <a:ext cx="2922840" cy="586080"/>
                <a:chOff x="3135960" y="3516120"/>
                <a:chExt cx="2922840" cy="586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3226680" y="351612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135960" y="351612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6059160" y="3516120"/>
                <a:ext cx="2391840" cy="586080"/>
                <a:chOff x="6059160" y="3516120"/>
                <a:chExt cx="2391840" cy="586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6149160" y="351612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059160" y="351612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920520" y="4102560"/>
                <a:ext cx="2215080" cy="586080"/>
                <a:chOff x="920520" y="4102560"/>
                <a:chExt cx="2215080" cy="586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011240" y="4102560"/>
                  <a:ext cx="203364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920520" y="4102560"/>
                  <a:ext cx="221508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135960" y="4102560"/>
                <a:ext cx="2922840" cy="586080"/>
                <a:chOff x="3135960" y="4102560"/>
                <a:chExt cx="2922840" cy="586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226680" y="410256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135960" y="410256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6059160" y="4102560"/>
                <a:ext cx="2391840" cy="586080"/>
                <a:chOff x="6059160" y="4102560"/>
                <a:chExt cx="2391840" cy="586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149160" y="410256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059160" y="410256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920520" y="4689000"/>
                <a:ext cx="2215080" cy="1172880"/>
                <a:chOff x="920520" y="4689000"/>
                <a:chExt cx="2215080" cy="11728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1011240" y="4689000"/>
                  <a:ext cx="2033640" cy="11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Text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920520" y="4689000"/>
                  <a:ext cx="2215080" cy="117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3135960" y="4689000"/>
                <a:ext cx="2922840" cy="586080"/>
                <a:chOff x="3135960" y="4689000"/>
                <a:chExt cx="2922840" cy="58608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3226680" y="468900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135960" y="468900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6059160" y="4689000"/>
                <a:ext cx="2391840" cy="586080"/>
                <a:chOff x="6059160" y="4689000"/>
                <a:chExt cx="2391840" cy="58608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6149160" y="468900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059160" y="468900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135960" y="5275440"/>
                <a:ext cx="2922840" cy="586440"/>
                <a:chOff x="3135960" y="5275440"/>
                <a:chExt cx="2922840" cy="586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226680" y="5275440"/>
                  <a:ext cx="27414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135960" y="5275440"/>
                  <a:ext cx="2922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6059160" y="5275440"/>
                <a:ext cx="2391840" cy="586440"/>
                <a:chOff x="6059160" y="5275440"/>
                <a:chExt cx="2391840" cy="586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6149160" y="5275440"/>
                  <a:ext cx="22114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ompany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059160" y="5275440"/>
                  <a:ext cx="2391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0" name=""/>
            <p:cNvSpPr/>
            <p:nvPr/>
          </p:nvSpPr>
          <p:spPr>
            <a:xfrm>
              <a:off x="914400" y="1752480"/>
              <a:ext cx="75434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5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Edit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专门用于显示编辑数据库表中当前记录的字段值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窗体中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显示和编辑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ustomer.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表中当前记录的三个指定的字段，窗体中各控件的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，程序运行之后如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5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33814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314960" cy="360684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990720" y="5410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Edi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显示和编辑表中的数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914400" y="762120"/>
            <a:ext cx="6609960" cy="4952880"/>
            <a:chOff x="914400" y="762120"/>
            <a:chExt cx="6609960" cy="4952880"/>
          </a:xfrm>
        </p:grpSpPr>
        <p:grpSp>
          <p:nvGrpSpPr>
            <p:cNvPr id="1048" name=""/>
            <p:cNvGrpSpPr/>
            <p:nvPr/>
          </p:nvGrpSpPr>
          <p:grpSpPr>
            <a:xfrm>
              <a:off x="919800" y="766440"/>
              <a:ext cx="6598440" cy="4943880"/>
              <a:chOff x="919800" y="766440"/>
              <a:chExt cx="6598440" cy="494388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919800" y="766440"/>
                <a:ext cx="1807200" cy="549000"/>
                <a:chOff x="919800" y="766440"/>
                <a:chExt cx="1807200" cy="54900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1000080" y="766440"/>
                  <a:ext cx="1646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919800" y="766440"/>
                  <a:ext cx="1807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2727360" y="766440"/>
                <a:ext cx="2590920" cy="549000"/>
                <a:chOff x="2727360" y="766440"/>
                <a:chExt cx="2590920" cy="54900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2807280" y="76644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727360" y="76644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5319000" y="766440"/>
                <a:ext cx="2199240" cy="549000"/>
                <a:chOff x="5319000" y="766440"/>
                <a:chExt cx="2199240" cy="54900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5399280" y="76644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319000" y="76644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919800" y="1315440"/>
                <a:ext cx="1807200" cy="1648080"/>
                <a:chOff x="919800" y="1315440"/>
                <a:chExt cx="1807200" cy="1648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000080" y="1315440"/>
                  <a:ext cx="1646280" cy="164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919800" y="1315440"/>
                  <a:ext cx="1807200" cy="16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727360" y="1315440"/>
                <a:ext cx="2590920" cy="549000"/>
                <a:chOff x="2727360" y="1315440"/>
                <a:chExt cx="2590920" cy="5490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807280" y="131544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727360" y="131544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5319000" y="1315440"/>
                <a:ext cx="2199240" cy="549000"/>
                <a:chOff x="5319000" y="1315440"/>
                <a:chExt cx="2199240" cy="54900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5399280" y="131544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5319000" y="131544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2727360" y="1864800"/>
                <a:ext cx="2590920" cy="549360"/>
                <a:chOff x="2727360" y="1864800"/>
                <a:chExt cx="2590920" cy="5493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2807280" y="1864800"/>
                  <a:ext cx="2431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727360" y="1864800"/>
                  <a:ext cx="2590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5319000" y="1864800"/>
                <a:ext cx="2199240" cy="549360"/>
                <a:chOff x="5319000" y="1864800"/>
                <a:chExt cx="2199240" cy="5493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399280" y="1864800"/>
                  <a:ext cx="20383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319000" y="1864800"/>
                  <a:ext cx="2199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2727360" y="2414520"/>
                <a:ext cx="2590920" cy="549000"/>
                <a:chOff x="2727360" y="2414520"/>
                <a:chExt cx="2590920" cy="54900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2807280" y="241452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727360" y="241452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5319000" y="2414520"/>
                <a:ext cx="2199240" cy="549000"/>
                <a:chOff x="5319000" y="2414520"/>
                <a:chExt cx="2199240" cy="5490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5399280" y="241452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319000" y="241452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919800" y="2963880"/>
                <a:ext cx="1807200" cy="549000"/>
                <a:chOff x="919800" y="2963880"/>
                <a:chExt cx="1807200" cy="54900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1000080" y="2963880"/>
                  <a:ext cx="1646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919800" y="2963880"/>
                  <a:ext cx="1807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2727360" y="2963880"/>
                <a:ext cx="2590920" cy="549000"/>
                <a:chOff x="2727360" y="2963880"/>
                <a:chExt cx="2590920" cy="54900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2807280" y="296388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2727360" y="296388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5319000" y="2963880"/>
                <a:ext cx="2199240" cy="549000"/>
                <a:chOff x="5319000" y="2963880"/>
                <a:chExt cx="2199240" cy="54900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5399280" y="296388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5319000" y="296388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919800" y="3512880"/>
                <a:ext cx="1807200" cy="549000"/>
                <a:chOff x="919800" y="3512880"/>
                <a:chExt cx="1807200" cy="54900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000080" y="3512880"/>
                  <a:ext cx="1646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919800" y="3512880"/>
                  <a:ext cx="1807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727360" y="3512880"/>
                <a:ext cx="2590920" cy="549000"/>
                <a:chOff x="2727360" y="3512880"/>
                <a:chExt cx="2590920" cy="54900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807280" y="351288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727360" y="351288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5319000" y="3512880"/>
                <a:ext cx="2199240" cy="549000"/>
                <a:chOff x="5319000" y="3512880"/>
                <a:chExt cx="2199240" cy="5490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399280" y="351288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319000" y="351288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919800" y="4062240"/>
                <a:ext cx="1807200" cy="1648080"/>
                <a:chOff x="919800" y="4062240"/>
                <a:chExt cx="1807200" cy="1648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1000080" y="4062240"/>
                  <a:ext cx="1646280" cy="164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919800" y="4062240"/>
                  <a:ext cx="1807200" cy="16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27360" y="4062240"/>
                <a:ext cx="2590920" cy="549360"/>
                <a:chOff x="2727360" y="4062240"/>
                <a:chExt cx="2590920" cy="5493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807280" y="4062240"/>
                  <a:ext cx="2431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727360" y="4062240"/>
                  <a:ext cx="2590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5319000" y="4062240"/>
                <a:ext cx="2199240" cy="549360"/>
                <a:chOff x="5319000" y="4062240"/>
                <a:chExt cx="2199240" cy="5493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5399280" y="4062240"/>
                  <a:ext cx="20383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319000" y="4062240"/>
                  <a:ext cx="2199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27360" y="4611960"/>
                <a:ext cx="2590920" cy="549000"/>
                <a:chOff x="2727360" y="4611960"/>
                <a:chExt cx="2590920" cy="54900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807280" y="461196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727360" y="461196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5319000" y="4611960"/>
                <a:ext cx="2199240" cy="549000"/>
                <a:chOff x="5319000" y="4611960"/>
                <a:chExt cx="2199240" cy="54900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5399280" y="461196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319000" y="461196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727360" y="5161320"/>
                <a:ext cx="2590920" cy="549000"/>
                <a:chOff x="2727360" y="5161320"/>
                <a:chExt cx="2590920" cy="5490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807280" y="516132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adOnl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727360" y="516132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319000" y="5161320"/>
                <a:ext cx="2199240" cy="549000"/>
                <a:chOff x="5319000" y="5161320"/>
                <a:chExt cx="2199240" cy="54900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399280" y="516132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319000" y="516132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8" name=""/>
            <p:cNvSpPr/>
            <p:nvPr/>
          </p:nvSpPr>
          <p:spPr>
            <a:xfrm>
              <a:off x="914400" y="762120"/>
              <a:ext cx="6609960" cy="495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7485840" y="106668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1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图中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1467000" y="1143000"/>
            <a:ext cx="6152760" cy="4726080"/>
            <a:chOff x="1467000" y="1143000"/>
            <a:chExt cx="6152760" cy="4726080"/>
          </a:xfrm>
        </p:grpSpPr>
        <p:grpSp>
          <p:nvGrpSpPr>
            <p:cNvPr id="1121" name=""/>
            <p:cNvGrpSpPr/>
            <p:nvPr/>
          </p:nvGrpSpPr>
          <p:grpSpPr>
            <a:xfrm>
              <a:off x="1472040" y="1146600"/>
              <a:ext cx="6141960" cy="4717800"/>
              <a:chOff x="1472040" y="1146600"/>
              <a:chExt cx="6141960" cy="4717800"/>
            </a:xfrm>
          </p:grpSpPr>
          <p:grpSp>
            <p:nvGrpSpPr>
              <p:cNvPr id="1122" name=""/>
              <p:cNvGrpSpPr/>
              <p:nvPr/>
            </p:nvGrpSpPr>
            <p:grpSpPr>
              <a:xfrm>
                <a:off x="1472040" y="1146600"/>
                <a:ext cx="1682280" cy="1415520"/>
                <a:chOff x="1472040" y="1146600"/>
                <a:chExt cx="1682280" cy="14155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1546920" y="1146600"/>
                  <a:ext cx="1532520" cy="14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472040" y="1146600"/>
                  <a:ext cx="1682280" cy="14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3154680" y="1146600"/>
                <a:ext cx="2411640" cy="471600"/>
                <a:chOff x="3154680" y="1146600"/>
                <a:chExt cx="2411640" cy="471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3228840" y="11466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154680" y="11466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5566680" y="1146600"/>
                <a:ext cx="2047320" cy="471600"/>
                <a:chOff x="5566680" y="1146600"/>
                <a:chExt cx="2047320" cy="471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5641560" y="11466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566680" y="11466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154680" y="1618200"/>
                <a:ext cx="2411640" cy="471600"/>
                <a:chOff x="3154680" y="1618200"/>
                <a:chExt cx="2411640" cy="471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228840" y="16182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154680" y="16182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5566680" y="1618200"/>
                <a:ext cx="2047320" cy="471600"/>
                <a:chOff x="5566680" y="1618200"/>
                <a:chExt cx="2047320" cy="471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641560" y="16182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mpan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566680" y="16182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3154680" y="2089800"/>
                <a:ext cx="2411640" cy="471960"/>
                <a:chOff x="3154680" y="2089800"/>
                <a:chExt cx="2411640" cy="47196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3228840" y="2089800"/>
                  <a:ext cx="22629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adOnl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154680" y="2089800"/>
                  <a:ext cx="24116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5566680" y="2089800"/>
                <a:ext cx="2047320" cy="471960"/>
                <a:chOff x="5566680" y="2089800"/>
                <a:chExt cx="2047320" cy="47196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5641560" y="2089800"/>
                  <a:ext cx="18975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566680" y="2089800"/>
                  <a:ext cx="204732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1472040" y="2562120"/>
                <a:ext cx="1682280" cy="1415160"/>
                <a:chOff x="1472040" y="2562120"/>
                <a:chExt cx="1682280" cy="141516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546920" y="2562120"/>
                  <a:ext cx="1532520" cy="14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472040" y="2562120"/>
                  <a:ext cx="1682280" cy="14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154680" y="2562120"/>
                <a:ext cx="2411640" cy="471600"/>
                <a:chOff x="3154680" y="2562120"/>
                <a:chExt cx="2411640" cy="471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3228840" y="256212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154680" y="256212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5566680" y="2562120"/>
                <a:ext cx="2047320" cy="471600"/>
                <a:chOff x="5566680" y="2562120"/>
                <a:chExt cx="2047320" cy="471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5641560" y="256212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566680" y="256212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3154680" y="3033720"/>
                <a:ext cx="2411640" cy="471600"/>
                <a:chOff x="3154680" y="3033720"/>
                <a:chExt cx="2411640" cy="471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228840" y="303372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154680" y="303372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566680" y="3033720"/>
                <a:ext cx="2047320" cy="471600"/>
                <a:chOff x="5566680" y="3033720"/>
                <a:chExt cx="2047320" cy="471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641560" y="303372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ddr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566680" y="303372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3154680" y="3505680"/>
                <a:ext cx="2411640" cy="471600"/>
                <a:chOff x="3154680" y="3505680"/>
                <a:chExt cx="2411640" cy="471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228840" y="350568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adOnl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154680" y="350568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5566680" y="3505680"/>
                <a:ext cx="2047320" cy="471600"/>
                <a:chOff x="5566680" y="3505680"/>
                <a:chExt cx="2047320" cy="471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5641560" y="350568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566680" y="350568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1472040" y="3977280"/>
                <a:ext cx="1682280" cy="471960"/>
                <a:chOff x="1472040" y="3977280"/>
                <a:chExt cx="1682280" cy="4719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1546920" y="3977280"/>
                  <a:ext cx="153252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472040" y="3977280"/>
                  <a:ext cx="168228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3154680" y="3977280"/>
                <a:ext cx="2411640" cy="471960"/>
                <a:chOff x="3154680" y="3977280"/>
                <a:chExt cx="2411640" cy="4719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228840" y="3977280"/>
                  <a:ext cx="22629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154680" y="3977280"/>
                  <a:ext cx="24116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5566680" y="3977280"/>
                <a:ext cx="2047320" cy="471960"/>
                <a:chOff x="5566680" y="3977280"/>
                <a:chExt cx="2047320" cy="47196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5641560" y="3977280"/>
                  <a:ext cx="18975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566680" y="3977280"/>
                  <a:ext cx="204732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1472040" y="4449240"/>
                <a:ext cx="1682280" cy="471600"/>
                <a:chOff x="1472040" y="4449240"/>
                <a:chExt cx="1682280" cy="4716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1546920" y="4449240"/>
                  <a:ext cx="1532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472040" y="4449240"/>
                  <a:ext cx="168228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3154680" y="4449240"/>
                <a:ext cx="2411640" cy="471600"/>
                <a:chOff x="3154680" y="4449240"/>
                <a:chExt cx="2411640" cy="47160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3228840" y="444924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154680" y="444924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5566680" y="4449240"/>
                <a:ext cx="2047320" cy="471600"/>
                <a:chOff x="5566680" y="4449240"/>
                <a:chExt cx="2047320" cy="47160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5641560" y="444924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mpan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566680" y="444924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1472040" y="4921200"/>
                <a:ext cx="1682280" cy="471600"/>
                <a:chOff x="1472040" y="4921200"/>
                <a:chExt cx="1682280" cy="47160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546920" y="4921200"/>
                  <a:ext cx="1532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472040" y="4921200"/>
                  <a:ext cx="168228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3154680" y="4921200"/>
                <a:ext cx="2411640" cy="471600"/>
                <a:chOff x="3154680" y="4921200"/>
                <a:chExt cx="2411640" cy="47160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3228840" y="49212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154680" y="49212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5566680" y="4921200"/>
                <a:ext cx="2047320" cy="471600"/>
                <a:chOff x="5566680" y="4921200"/>
                <a:chExt cx="2047320" cy="4716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5641560" y="49212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ddr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5566680" y="49212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1472040" y="5392800"/>
                <a:ext cx="1682280" cy="471600"/>
                <a:chOff x="1472040" y="5392800"/>
                <a:chExt cx="1682280" cy="47160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1546920" y="5392800"/>
                  <a:ext cx="1532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472040" y="5392800"/>
                  <a:ext cx="168228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3154680" y="5392800"/>
                <a:ext cx="2411640" cy="471600"/>
                <a:chOff x="3154680" y="5392800"/>
                <a:chExt cx="2411640" cy="4716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3228840" y="53928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154680" y="53928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5566680" y="5392800"/>
                <a:ext cx="2047320" cy="471600"/>
                <a:chOff x="5566680" y="5392800"/>
                <a:chExt cx="2047320" cy="47160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641560" y="53928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566680" y="53928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0" name=""/>
            <p:cNvSpPr/>
            <p:nvPr/>
          </p:nvSpPr>
          <p:spPr>
            <a:xfrm>
              <a:off x="1467000" y="1143000"/>
              <a:ext cx="6152760" cy="4726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3526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647960" cy="39229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1295280" y="5486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Edi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显示和修改表中的数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6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Memo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80720" y="1752480"/>
            <a:ext cx="5334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Memo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axLengt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crollBa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ordWra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lignme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utoDispla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7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Imag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5715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utoDispla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retc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0:55:40Z</dcterms:created>
  <dc:creator>liwu</dc:creator>
  <dc:description/>
  <dc:language>en-US</dc:language>
  <cp:lastModifiedBy>lcb</cp:lastModifiedBy>
  <dcterms:modified xsi:type="dcterms:W3CDTF">2002-03-30T08:44:14Z</dcterms:modified>
  <cp:revision>68</cp:revision>
  <dc:subject/>
  <dc:title>第6章  数据库编程</dc:title>
</cp:coreProperties>
</file>